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10D-9CDF-46E2-A119-6C2E0038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53D-C3BD-45B0-A98C-5F5EDFFB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AB1-107B-480F-B891-5B807FD6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7F2-3CA1-4192-A3E8-D6EF2E92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D58-13BF-4376-97A4-52E665E9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C42-1DCA-48D6-96B2-FB537EC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95E-6707-43EB-B266-D69297E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DB0-5550-4161-91F5-3C7132D9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EDF-0172-44B7-80E2-7B0F2B2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52F-4CC6-42F8-93AB-2A5A2E6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3E9-B8EE-409D-9FA6-5B13759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818-09A1-416B-AD62-C3EA8D8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B81A-95D2-46DF-A5AA-34FFE228A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pollution in 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7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75256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1752480" cy="125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24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162864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315200" y="2209680"/>
            <a:ext cx="1828800" cy="1257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7120" y="3429000"/>
            <a:ext cx="266688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Hi Hi Hi Hi Hi Hi Hi Hi Hi Hi Hi Hi Hi Hi Hi Hi Hi Hi Hi Hi Hi Hi Hi Hi Hi Hi Hi Hi Hi Hi Hi Hi Hi Hi Hi Hi Hi Hi Hi Hi Hi Hi Hi Hi Hi Hi Hi Hi Hi Hi Hi Hi Hi Hi Hi Hi Hi Hi Hi Hi Hi Hi Hi Hi Hi Hi Hi Hi Hi Hi Hi Hi Hi Hi Hi Hi Hi Hi Hi Hi Hi Hi Hi Hi Hi Hi Hi Hi Hi 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477120" y="3429000"/>
            <a:ext cx="2666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 abou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 cities are facing water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years ago, out of 27 cities, only 6 cities met the Chinese government’s wate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secretly dump wastes and toxins into water because of mone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038480" cy="3391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6520" y="4724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tz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83120" y="0"/>
            <a:ext cx="4160880" cy="6400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1992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ai-Hai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Who/What is aff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48320" cy="303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angtze Dolphi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4419720"/>
            <a:ext cx="4648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Goddess of Yangtze (according to A&amp;D’s Power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굴림"/>
              </a:rPr>
              <a:t>already 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xtinc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you should (maybe) feel guilty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e Alberto and David’s presentation for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l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!</a:t>
            </a:r>
            <a:br>
              <a:rPr sz="8000"/>
            </a:b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S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‘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w</a:t>
            </a:r>
            <a:r>
              <a:rPr b="0" lang="en-US" sz="8000" spc="-1" strike="noStrike">
                <a:solidFill>
                  <a:srgbClr val="9900cc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you can do to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vironmental-friendly produ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ome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throw rubbish down the rivers or the d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n off the tap when you’re brushing your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amount of time you take to shower (unless you don’t sh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550080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010280" y="4130640"/>
            <a:ext cx="2133720" cy="1408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3048120"/>
            <a:ext cx="1511280" cy="2209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9320" y="76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ample: Sichuan Earthqu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5120" y="5143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0" y="3124080"/>
            <a:ext cx="3048120" cy="2262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562720" y="1752480"/>
            <a:ext cx="3581280" cy="2484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4343400" y="32004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962520" y="4678200"/>
            <a:ext cx="3124080" cy="2179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83808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ing fresh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or medical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what you do? Dumping trash on the 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at’s happ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33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 th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not what we’re doing, b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3720" y="76176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Bradley Hand ITC"/>
              </a:rPr>
              <a:t>Ch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5867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Population of over 1.3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ndalus"/>
              </a:rPr>
              <a:t>70% of China’s population live in the country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495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Contamina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ndirect 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in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666880" cy="285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2286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951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572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5720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36232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52320" y="2286000"/>
            <a:ext cx="12193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6196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ortant at th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ories, us,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327672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23720" y="3200400"/>
            <a:ext cx="7621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lated to th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1055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il lea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1055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atural disa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74284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conomic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24280" y="1752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447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pulation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everyone/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ater scar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hir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irt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ol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yphoid fe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600200"/>
            <a:ext cx="3962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ying Pla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ying Anim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roblems to make a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29:54Z</dcterms:created>
  <dc:creator>User</dc:creator>
  <dc:description/>
  <dc:language>en-US</dc:language>
  <cp:lastModifiedBy>Claudia</cp:lastModifiedBy>
  <dcterms:modified xsi:type="dcterms:W3CDTF">2008-06-02T15:47:56Z</dcterms:modified>
  <cp:revision>5</cp:revision>
  <dc:subject/>
  <dc:title>Water pollution in China</dc:title>
</cp:coreProperties>
</file>