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7D5D-E3FE-4E36-BC9B-17602C88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D8FA-1F9E-49FB-A243-444E4667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4D40-494B-4377-92BF-90F6E31CD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0206-C098-4831-9383-4CBFBCD71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5FF7-E4C1-485B-AE41-75A14E23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A262-E561-483D-992D-09B86148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AC0C-53C8-4F6F-9D97-B9B5C9B4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7278-894A-4434-BBC5-B99640A6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8297-7A52-4D4C-B583-FA755F9D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871D-3969-4FB4-B459-A8CC7A01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632F-EC6A-4791-A370-5D0915C8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691A-516E-4E49-B489-0752AD35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BC86-BCF0-43A6-A7CC-442AFBE1E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ter pollution in Ch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477120" y="6324480"/>
            <a:ext cx="2666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udia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2752560" cy="3429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43200" y="3429000"/>
            <a:ext cx="3733920" cy="342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2209680"/>
            <a:ext cx="1752480" cy="1257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824120" cy="2209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1828800" y="0"/>
            <a:ext cx="1628640" cy="2209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3429000" y="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400800" y="0"/>
            <a:ext cx="2743200" cy="2228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7315200" y="2209680"/>
            <a:ext cx="1828800" cy="1257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477120" y="3429000"/>
            <a:ext cx="2666880" cy="283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  <a:ea typeface="굴림"/>
              </a:rPr>
              <a:t>Hi Hi Hi Hi Hi Hi Hi Hi Hi Hi Hi Hi Hi Hi Hi Hi Hi Hi Hi Hi Hi Hi Hi Hi Hi Hi Hi Hi Hi Hi Hi Hi Hi Hi Hi Hi Hi Hi Hi Hi Hi Hi Hi Hi Hi Hi Hi Hi Hi Hi Hi Hi Hi Hi Hi Hi Hi Hi Hi Hi Hi Hi Hi Hi Hi Hi Hi Hi Hi Hi Hi Hi Hi Hi Hi Hi Hi Hi Hi Hi Hi Hi Hi Hi Hi Hi Hi Hi Hi 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6477120" y="3429000"/>
            <a:ext cx="26668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s about 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68 cities are facing water shor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years ago, out of 27 cities, only 6 cities met the Chinese government’s water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ies secretly dump wastes and toxins into water because of money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4038480" cy="3391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676520" y="47242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angtze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983120" y="0"/>
            <a:ext cx="4160880" cy="6400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19920" y="64911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ai-Hai River Ba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ff"/>
                </a:solidFill>
                <a:latin typeface="Arial"/>
              </a:rPr>
              <a:t>Who/What is affec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648320" cy="3036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438280" y="38862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Arial"/>
              </a:rPr>
              <a:t>Yangtze Dolphins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26708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4419720"/>
            <a:ext cx="46483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  <a:ea typeface="굴림"/>
              </a:rPr>
              <a:t>Goddess of Yangtze (according to A&amp;D’s PowerPoi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  <a:ea typeface="굴림"/>
              </a:rPr>
              <a:t>already e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xtinc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you should (maybe) feel guilty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see Alberto and David’s presentation for mor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8000" spc="-1" strike="noStrike">
                <a:solidFill>
                  <a:srgbClr val="ff6600"/>
                </a:solidFill>
                <a:latin typeface="Arial"/>
              </a:rPr>
              <a:t>f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ff66"/>
                </a:solidFill>
                <a:latin typeface="Arial"/>
              </a:rPr>
              <a:t>y</a:t>
            </a:r>
            <a:r>
              <a:rPr b="0" lang="en-US" sz="8000" spc="-1" strike="noStrike">
                <a:solidFill>
                  <a:srgbClr val="009900"/>
                </a:solidFill>
                <a:latin typeface="Arial"/>
              </a:rPr>
              <a:t>o</a:t>
            </a:r>
            <a:r>
              <a:rPr b="0" lang="en-US" sz="8000" spc="-1" strike="noStrike">
                <a:solidFill>
                  <a:srgbClr val="66ff33"/>
                </a:solidFill>
                <a:latin typeface="Arial"/>
              </a:rPr>
              <a:t>u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3333ff"/>
                </a:solidFill>
                <a:latin typeface="Arial"/>
              </a:rPr>
              <a:t>f</a:t>
            </a:r>
            <a:r>
              <a:rPr b="0" lang="en-US" sz="8000" spc="-1" strike="noStrike">
                <a:solidFill>
                  <a:srgbClr val="9900cc"/>
                </a:solidFill>
                <a:latin typeface="Arial"/>
              </a:rPr>
              <a:t>e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8000" spc="-1" strike="noStrike">
                <a:solidFill>
                  <a:srgbClr val="ff6600"/>
                </a:solidFill>
                <a:latin typeface="Arial"/>
              </a:rPr>
              <a:t>l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ff66"/>
                </a:solidFill>
                <a:latin typeface="Arial"/>
              </a:rPr>
              <a:t>g</a:t>
            </a:r>
            <a:r>
              <a:rPr b="0" lang="en-US" sz="8000" spc="-1" strike="noStrike">
                <a:solidFill>
                  <a:srgbClr val="009900"/>
                </a:solidFill>
                <a:latin typeface="Arial"/>
              </a:rPr>
              <a:t>u</a:t>
            </a:r>
            <a:r>
              <a:rPr b="0" lang="en-US" sz="8000" spc="-1" strike="noStrike">
                <a:solidFill>
                  <a:srgbClr val="66ff33"/>
                </a:solidFill>
                <a:latin typeface="Arial"/>
              </a:rPr>
              <a:t>i</a:t>
            </a:r>
            <a:r>
              <a:rPr b="0" lang="en-US" sz="8000" spc="-1" strike="noStrike">
                <a:solidFill>
                  <a:srgbClr val="3333ff"/>
                </a:solidFill>
                <a:latin typeface="Arial"/>
              </a:rPr>
              <a:t>l</a:t>
            </a:r>
            <a:r>
              <a:rPr b="0" lang="en-US" sz="8000" spc="-1" strike="noStrike">
                <a:solidFill>
                  <a:srgbClr val="9900cc"/>
                </a:solidFill>
                <a:latin typeface="Arial"/>
              </a:rPr>
              <a:t>t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y</a:t>
            </a:r>
            <a:r>
              <a:rPr b="0" lang="en-US" sz="8000" spc="-1" strike="noStrike">
                <a:solidFill>
                  <a:srgbClr val="ff6600"/>
                </a:solidFill>
                <a:latin typeface="Arial"/>
              </a:rPr>
              <a:t>,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8000" spc="-1" strike="noStrike">
                <a:solidFill>
                  <a:srgbClr val="009900"/>
                </a:solidFill>
                <a:latin typeface="Arial"/>
              </a:rPr>
              <a:t>t</a:t>
            </a:r>
            <a:r>
              <a:rPr b="0" lang="en-US" sz="8000" spc="-1" strike="noStrike">
                <a:solidFill>
                  <a:srgbClr val="66ff33"/>
                </a:solidFill>
                <a:latin typeface="Arial"/>
              </a:rPr>
              <a:t>’</a:t>
            </a:r>
            <a:r>
              <a:rPr b="0" lang="en-US" sz="8000" spc="-1" strike="noStrike">
                <a:solidFill>
                  <a:srgbClr val="3333ff"/>
                </a:solidFill>
                <a:latin typeface="Arial"/>
              </a:rPr>
              <a:t>s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9900cc"/>
                </a:solidFill>
                <a:latin typeface="Arial"/>
              </a:rPr>
              <a:t>o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k</a:t>
            </a:r>
            <a:r>
              <a:rPr b="0" lang="en-US" sz="8000" spc="-1" strike="noStrike">
                <a:solidFill>
                  <a:srgbClr val="ff6600"/>
                </a:solidFill>
                <a:latin typeface="Arial"/>
              </a:rPr>
              <a:t>!</a:t>
            </a:r>
            <a:br>
              <a:rPr sz="8000"/>
            </a:br>
            <a:r>
              <a:rPr b="0" lang="en-US" sz="8000" spc="-1" strike="noStrike">
                <a:solidFill>
                  <a:srgbClr val="ff6600"/>
                </a:solidFill>
                <a:latin typeface="Arial"/>
              </a:rPr>
              <a:t>St</a:t>
            </a:r>
            <a:r>
              <a:rPr b="0" lang="en-US" sz="8000" spc="-1" strike="noStrike">
                <a:solidFill>
                  <a:srgbClr val="ffff66"/>
                </a:solidFill>
                <a:latin typeface="Arial"/>
              </a:rPr>
              <a:t>a</a:t>
            </a:r>
            <a:r>
              <a:rPr b="0" lang="en-US" sz="8000" spc="-1" strike="noStrike">
                <a:solidFill>
                  <a:srgbClr val="009900"/>
                </a:solidFill>
                <a:latin typeface="Arial"/>
              </a:rPr>
              <a:t>r</a:t>
            </a:r>
            <a:r>
              <a:rPr b="0" lang="en-US" sz="8000" spc="-1" strike="noStrike">
                <a:solidFill>
                  <a:srgbClr val="66ff33"/>
                </a:solidFill>
                <a:latin typeface="Arial"/>
              </a:rPr>
              <a:t>t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3333ff"/>
                </a:solidFill>
                <a:latin typeface="Arial"/>
              </a:rPr>
              <a:t>‘</a:t>
            </a:r>
            <a:r>
              <a:rPr b="0" lang="en-US" sz="8000" spc="-1" strike="noStrike">
                <a:solidFill>
                  <a:srgbClr val="9900cc"/>
                </a:solidFill>
                <a:latin typeface="Arial"/>
              </a:rPr>
              <a:t>a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8000" spc="-1" strike="noStrike">
                <a:solidFill>
                  <a:srgbClr val="ff6600"/>
                </a:solidFill>
                <a:latin typeface="Arial"/>
              </a:rPr>
              <a:t>t</a:t>
            </a:r>
            <a:r>
              <a:rPr b="0" lang="en-US" sz="8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8000" spc="-1" strike="noStrike">
                <a:solidFill>
                  <a:srgbClr val="009900"/>
                </a:solidFill>
                <a:latin typeface="Arial"/>
              </a:rPr>
              <a:t>o</a:t>
            </a:r>
            <a:r>
              <a:rPr b="0" lang="en-US" sz="8000" spc="-1" strike="noStrike">
                <a:solidFill>
                  <a:srgbClr val="66ff33"/>
                </a:solidFill>
                <a:latin typeface="Arial"/>
              </a:rPr>
              <a:t>n</a:t>
            </a:r>
            <a:r>
              <a:rPr b="0" lang="en-US" sz="80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en-US" sz="8000" spc="-1" strike="noStrike">
                <a:solidFill>
                  <a:srgbClr val="9900cc"/>
                </a:solidFill>
                <a:latin typeface="Arial"/>
              </a:rPr>
              <a:t>i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8000" spc="-1" strike="noStrike">
                <a:solidFill>
                  <a:srgbClr val="ff6600"/>
                </a:solidFill>
                <a:latin typeface="Arial"/>
              </a:rPr>
              <a:t>g</a:t>
            </a:r>
            <a:r>
              <a:rPr b="0" lang="en-US" sz="8000" spc="-1" strike="noStrike">
                <a:solidFill>
                  <a:srgbClr val="ffff66"/>
                </a:solidFill>
                <a:latin typeface="Arial"/>
              </a:rPr>
              <a:t>’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009900"/>
                </a:solidFill>
                <a:latin typeface="Arial"/>
              </a:rPr>
              <a:t>n</a:t>
            </a:r>
            <a:r>
              <a:rPr b="0" lang="en-US" sz="8000" spc="-1" strike="noStrike">
                <a:solidFill>
                  <a:srgbClr val="66ff33"/>
                </a:solidFill>
                <a:latin typeface="Arial"/>
              </a:rPr>
              <a:t>o</a:t>
            </a:r>
            <a:r>
              <a:rPr b="0" lang="en-US" sz="8000" spc="-1" strike="noStrike">
                <a:solidFill>
                  <a:srgbClr val="3333ff"/>
                </a:solidFill>
                <a:latin typeface="Arial"/>
              </a:rPr>
              <a:t>w</a:t>
            </a:r>
            <a:r>
              <a:rPr b="0" lang="en-US" sz="8000" spc="-1" strike="noStrike">
                <a:solidFill>
                  <a:srgbClr val="9900cc"/>
                </a:solidFill>
                <a:latin typeface="Arial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What you can do to 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environmental-friendly produc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 some pla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throw rubbish down the rivers or the dr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 wa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n off the tap when you’re brushing your te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the amount of time you take to shower (unless you don’t show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086600" y="5500800"/>
            <a:ext cx="2057400" cy="1357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5346720"/>
            <a:ext cx="2209680" cy="1511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010280" y="4130640"/>
            <a:ext cx="2133720" cy="1408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895480" y="3048120"/>
            <a:ext cx="1511280" cy="2209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219320" y="76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Example: Sichuan Earthqu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905120" y="514368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0" y="3124080"/>
            <a:ext cx="3048120" cy="2262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5562720" y="1752480"/>
            <a:ext cx="3581280" cy="2484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4343400" y="3200400"/>
            <a:ext cx="2666880" cy="1776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3962520" y="4678200"/>
            <a:ext cx="3124080" cy="2179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3520" y="838080"/>
            <a:ext cx="4114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ing fresh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oor medical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" y="6094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is what you do? Dumping trash on the gr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533520"/>
            <a:ext cx="5562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what’s happen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3335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d thi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not what we’re doing, bu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301464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343400" y="2133720"/>
            <a:ext cx="3733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3720" y="761760"/>
            <a:ext cx="2133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99"/>
                </a:solidFill>
                <a:latin typeface="Bradley Hand ITC"/>
              </a:rPr>
              <a:t>Chi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2209320"/>
            <a:ext cx="58676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ndalus"/>
              </a:rPr>
              <a:t>Population of over 1.3 bi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ndalus"/>
              </a:rPr>
              <a:t>70% of China’s population live in the country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What is water pollu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4190760"/>
            <a:ext cx="4952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Contamination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Direct water pol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Indirect water pol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ain 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76720" y="2362320"/>
            <a:ext cx="2666880" cy="2855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5627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228600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Fa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36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3505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895120" y="4724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81080" y="4572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u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38680" y="4800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29400" y="457200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52680" y="2362320"/>
            <a:ext cx="1371600" cy="838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352320" y="2286000"/>
            <a:ext cx="1219320" cy="99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361960" y="28195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24382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mportant at the mo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05720" y="4572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Factories, us,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3623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3276720"/>
            <a:ext cx="914400" cy="838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123720" y="3200400"/>
            <a:ext cx="762120" cy="99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34290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related to the 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504960" y="510552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5867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il lea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510552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8672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Natural disa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2742840" y="182880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4479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Economic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724280" y="175248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1447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opulation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 on everyone/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Water scar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Thir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Dirty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Infectious dise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hol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Typhoid fe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1600200"/>
            <a:ext cx="39625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Dying Pla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Dying Animal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Problems to make a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2:29:54Z</dcterms:created>
  <dc:creator>User</dc:creator>
  <dc:description/>
  <dc:language>en-US</dc:language>
  <cp:lastModifiedBy>Claudia</cp:lastModifiedBy>
  <dcterms:modified xsi:type="dcterms:W3CDTF">2008-06-02T15:47:56Z</dcterms:modified>
  <cp:revision>5</cp:revision>
  <dc:subject/>
  <dc:title>Water pollution in China</dc:title>
</cp:coreProperties>
</file>