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7ED-BD42-4D31-9ED5-D6BA7FC9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DE1-52B8-4E82-B3C4-FCF431AA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3EA-C19D-4CC2-9453-FC26BF4A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A19-57A7-4FCD-A4B0-02BFD858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E0A-3E1C-4935-AD3C-FB1CDCA4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B17-7823-481E-AEB8-C1647DAB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606-8164-48F1-82CC-3B7B5C7A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D8A-4ADC-4A80-9F4A-3047E52D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AD2-8254-43E4-A74E-16689CFE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3C2-7ED9-49FD-B27B-C0368B8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E61-01A3-4B5D-B3E0-4B8AD4AC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803-B37D-4F7A-A0C9-64D0F745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F48A-EA47-4620-8DDB-5F88C1C1D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pollution in 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71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udi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75256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752480" cy="1257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2412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828800" y="0"/>
            <a:ext cx="162864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429000" y="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400800" y="0"/>
            <a:ext cx="2743200" cy="22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315200" y="2209680"/>
            <a:ext cx="1828800" cy="1257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7120" y="3429000"/>
            <a:ext cx="266688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Hi Hi Hi Hi Hi Hi Hi Hi Hi Hi Hi Hi Hi Hi Hi Hi Hi Hi Hi Hi Hi Hi Hi Hi Hi Hi Hi Hi Hi Hi Hi Hi Hi Hi Hi Hi Hi Hi Hi Hi Hi Hi Hi Hi Hi Hi Hi Hi Hi Hi Hi Hi Hi Hi Hi Hi Hi Hi Hi Hi Hi Hi Hi Hi Hi Hi Hi Hi Hi Hi Hi Hi Hi Hi Hi Hi Hi Hi Hi Hi Hi Hi Hi Hi Hi Hi Hi Hi Hi 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477120" y="3429000"/>
            <a:ext cx="2666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abou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 cities are facing water shor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ears ago, out of 27 cities, only 6 cities met the Chinese government’s wate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secretly dump wastes and toxins into water because of mone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038480" cy="3391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76520" y="4724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tz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83120" y="0"/>
            <a:ext cx="4160880" cy="6400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19920" y="6491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ai-Hai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"/>
              </a:rPr>
              <a:t>Who/What is aff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48320" cy="303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38280" y="3886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angtze Dolphin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419720"/>
            <a:ext cx="4648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Goddess of Yangtze (according to A&amp;D’s Power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already 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xtin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you should (maybe) feel guilt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e Alberto and David’s presentation for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y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u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e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g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u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!</a:t>
            </a:r>
            <a:br>
              <a:rPr sz="8000"/>
            </a:b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St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‘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w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hat you can do to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vironmental-friendly produ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ome pla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hrow rubbish down the rivers or the d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n off the tap when you’re brushing your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amount of time you take to shower (unless you don’t sh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5500800"/>
            <a:ext cx="2057400" cy="135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010280" y="4130640"/>
            <a:ext cx="2133720" cy="1408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3048120"/>
            <a:ext cx="1511280" cy="2209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76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ample: Sichuan Earthqu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5120" y="5143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0" y="3124080"/>
            <a:ext cx="3048120" cy="2262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562720" y="1752480"/>
            <a:ext cx="3581280" cy="248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4343400" y="3200400"/>
            <a:ext cx="2666880" cy="177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3962520" y="4678200"/>
            <a:ext cx="3124080" cy="2179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83808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ing fresh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or medical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what you do? Dumping trash on the 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at’s happ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33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 th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what we’re doing, b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01464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3720" y="76176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Bradley Hand ITC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5867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alus"/>
              </a:rPr>
              <a:t>Population of over 1.3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alus"/>
              </a:rPr>
              <a:t>70% of China’s population live in the country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495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Contamina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irect 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ndirect 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in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666880" cy="285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627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2286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951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4572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45720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362320"/>
            <a:ext cx="13716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352320" y="2286000"/>
            <a:ext cx="121932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36196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ortant at the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ories, us,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623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327672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123720" y="3200400"/>
            <a:ext cx="76212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42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lated to th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1055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il lea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51055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atural dis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742840" y="18288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447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conom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724280" y="17524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1447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everyone/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Water scar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hir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Dirt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ol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yphoid f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1600200"/>
            <a:ext cx="3962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ying Pla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ying Anima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roblems to make a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29:54Z</dcterms:created>
  <dc:creator>User</dc:creator>
  <dc:description/>
  <dc:language>en-US</dc:language>
  <cp:lastModifiedBy>Claudia</cp:lastModifiedBy>
  <dcterms:modified xsi:type="dcterms:W3CDTF">2008-06-02T15:47:56Z</dcterms:modified>
  <cp:revision>5</cp:revision>
  <dc:subject/>
  <dc:title>Water pollution in China</dc:title>
</cp:coreProperties>
</file>