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D2C5-6B98-4146-961A-9215F462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6BC2-2FA3-4CE8-973A-91DC66B7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58F8-DC43-48AB-9BFC-0584589B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3D7F-0D9D-4A20-844F-57F741D1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5591-F91E-43C7-B65F-CECDEF98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F150-5A32-4F21-93E2-E16DF6B8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70D4-AB3B-460F-8270-5851BD4F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7977-2AC1-4612-B436-A34144B4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998-2759-4B63-A6AB-13BA64A2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9976-8BF4-4911-AA96-2C353FF5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551A-5F0F-408B-8117-4FCFBB4D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4DC3-CE8F-48B1-A242-2862DCF7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DC35-65DC-43FB-8341-421B7E4DD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pollution in Ch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77120" y="6324480"/>
            <a:ext cx="2666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udia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275256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2209680"/>
            <a:ext cx="1752480" cy="1257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2412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828800" y="0"/>
            <a:ext cx="1628640" cy="2209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429000" y="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400800" y="0"/>
            <a:ext cx="2743200" cy="2228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7315200" y="2209680"/>
            <a:ext cx="1828800" cy="1257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477120" y="3429000"/>
            <a:ext cx="2666880" cy="283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굴림"/>
              </a:rPr>
              <a:t>Hi Hi Hi Hi Hi Hi Hi Hi Hi Hi Hi Hi Hi Hi Hi Hi Hi Hi Hi Hi Hi Hi Hi Hi Hi Hi Hi Hi Hi Hi Hi Hi Hi Hi Hi Hi Hi Hi Hi Hi Hi Hi Hi Hi Hi Hi Hi Hi Hi Hi Hi Hi Hi Hi Hi Hi Hi Hi Hi Hi Hi Hi Hi Hi Hi Hi Hi Hi Hi Hi Hi Hi Hi Hi Hi Hi Hi Hi Hi Hi Hi Hi Hi Hi Hi Hi Hi Hi Hi 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6477120" y="3429000"/>
            <a:ext cx="26668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 about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68 cities are facing water shor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years ago, out of 27 cities, only 6 cities met the Chinese government’s water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ies secretly dump wastes and toxins into water because of money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4038480" cy="3391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76520" y="47242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ngtze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983120" y="0"/>
            <a:ext cx="4160880" cy="6400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19920" y="64911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ai-Hai River Ba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Arial"/>
              </a:rPr>
              <a:t>Who/What is affec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648320" cy="3036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438280" y="38862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Yangtze Dolphin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26708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4419720"/>
            <a:ext cx="46483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굴림"/>
              </a:rPr>
              <a:t>Goddess of Yangtze (according to A&amp;D’s PowerPo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굴림"/>
              </a:rPr>
              <a:t>already 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xtinc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you should (maybe) feel guilty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ee Alberto and David’s presentation for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f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y</a:t>
            </a: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o</a:t>
            </a:r>
            <a:r>
              <a:rPr b="0" lang="en-US" sz="8000" spc="-1" strike="noStrike">
                <a:solidFill>
                  <a:srgbClr val="66ff33"/>
                </a:solidFill>
                <a:latin typeface="Arial"/>
              </a:rPr>
              <a:t>u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f</a:t>
            </a:r>
            <a:r>
              <a:rPr b="0" lang="en-US" sz="8000" spc="-1" strike="noStrike">
                <a:solidFill>
                  <a:srgbClr val="9900cc"/>
                </a:solidFill>
                <a:latin typeface="Arial"/>
              </a:rPr>
              <a:t>e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l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g</a:t>
            </a: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u</a:t>
            </a:r>
            <a:r>
              <a:rPr b="0" lang="en-US" sz="8000" spc="-1" strike="noStrike">
                <a:solidFill>
                  <a:srgbClr val="66ff33"/>
                </a:solidFill>
                <a:latin typeface="Arial"/>
              </a:rPr>
              <a:t>i</a:t>
            </a: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l</a:t>
            </a:r>
            <a:r>
              <a:rPr b="0" lang="en-US" sz="8000" spc="-1" strike="noStrike">
                <a:solidFill>
                  <a:srgbClr val="9900cc"/>
                </a:solidFill>
                <a:latin typeface="Arial"/>
              </a:rPr>
              <a:t>t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t</a:t>
            </a:r>
            <a:r>
              <a:rPr b="0" lang="en-US" sz="8000" spc="-1" strike="noStrike">
                <a:solidFill>
                  <a:srgbClr val="66ff33"/>
                </a:solidFill>
                <a:latin typeface="Arial"/>
              </a:rPr>
              <a:t>’</a:t>
            </a: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s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9900cc"/>
                </a:solidFill>
                <a:latin typeface="Arial"/>
              </a:rPr>
              <a:t>o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k</a:t>
            </a: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!</a:t>
            </a:r>
            <a:br>
              <a:rPr sz="8000"/>
            </a:b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St</a:t>
            </a: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r</a:t>
            </a:r>
            <a:r>
              <a:rPr b="0" lang="en-US" sz="8000" spc="-1" strike="noStrike">
                <a:solidFill>
                  <a:srgbClr val="66ff33"/>
                </a:solidFill>
                <a:latin typeface="Arial"/>
              </a:rPr>
              <a:t>t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‘</a:t>
            </a:r>
            <a:r>
              <a:rPr b="0" lang="en-US" sz="8000" spc="-1" strike="noStrike">
                <a:solidFill>
                  <a:srgbClr val="9900cc"/>
                </a:solidFill>
                <a:latin typeface="Arial"/>
              </a:rPr>
              <a:t>a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o</a:t>
            </a:r>
            <a:r>
              <a:rPr b="0" lang="en-US" sz="8000" spc="-1" strike="noStrike">
                <a:solidFill>
                  <a:srgbClr val="66ff33"/>
                </a:solidFill>
                <a:latin typeface="Arial"/>
              </a:rPr>
              <a:t>n</a:t>
            </a: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en-US" sz="8000" spc="-1" strike="noStrike">
                <a:solidFill>
                  <a:srgbClr val="9900cc"/>
                </a:solidFill>
                <a:latin typeface="Arial"/>
              </a:rPr>
              <a:t>i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g</a:t>
            </a: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’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0" lang="en-US" sz="8000" spc="-1" strike="noStrike">
                <a:solidFill>
                  <a:srgbClr val="66ff33"/>
                </a:solidFill>
                <a:latin typeface="Arial"/>
              </a:rPr>
              <a:t>o</a:t>
            </a: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w</a:t>
            </a:r>
            <a:r>
              <a:rPr b="0" lang="en-US" sz="8000" spc="-1" strike="noStrike">
                <a:solidFill>
                  <a:srgbClr val="9900cc"/>
                </a:solidFill>
                <a:latin typeface="Arial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What you can do to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nvironmental-friendly produc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some pla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throw rubbish down the rivers or the dr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wa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n off the tap when you’re brushing your 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amount of time you take to shower (unless you don’t sh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86600" y="5500800"/>
            <a:ext cx="2057400" cy="1357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5346720"/>
            <a:ext cx="2209680" cy="1511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010280" y="4130640"/>
            <a:ext cx="2133720" cy="1408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895480" y="3048120"/>
            <a:ext cx="1511280" cy="2209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219320" y="76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Example: Sichuan Earthqu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905120" y="514368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0" y="3124080"/>
            <a:ext cx="3048120" cy="2262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5562720" y="1752480"/>
            <a:ext cx="3581280" cy="2484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4343400" y="3200400"/>
            <a:ext cx="2666880" cy="1776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3962520" y="4678200"/>
            <a:ext cx="3124080" cy="2179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3520" y="838080"/>
            <a:ext cx="4114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ing fresh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oor medical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609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what you do? Dumping trash on the gr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556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what’s happ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335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d thi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not what we’re doing, bu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01464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343400" y="2133720"/>
            <a:ext cx="373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3720" y="761760"/>
            <a:ext cx="2133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99"/>
                </a:solidFill>
                <a:latin typeface="Bradley Hand ITC"/>
              </a:rPr>
              <a:t>Chi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5867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ndalus"/>
              </a:rPr>
              <a:t>Population of over 1.3 b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ndalus"/>
              </a:rPr>
              <a:t>70% of China’s population live in the country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What is water poll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4190760"/>
            <a:ext cx="4952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Contamination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Direct water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Indirect water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ain 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666880" cy="2855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5627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22860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a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3505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895120" y="4724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4572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4800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45720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2362320"/>
            <a:ext cx="1371600" cy="83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352320" y="2286000"/>
            <a:ext cx="1219320" cy="99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361960" y="2819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2438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mportant at the m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4572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actories, us,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3623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327672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123720" y="3200400"/>
            <a:ext cx="762120" cy="99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429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related to the 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504960" y="510552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il lea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510552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867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atural disa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2742840" y="18288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447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conomic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724280" y="17524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1447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opulation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on everyone/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Water scar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Thir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Dirty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fectious dis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ol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yphoid fe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1600200"/>
            <a:ext cx="39625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ying Pla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ying Animal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Problems to make a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29:54Z</dcterms:created>
  <dc:creator>User</dc:creator>
  <dc:description/>
  <dc:language>en-US</dc:language>
  <cp:lastModifiedBy>Claudia</cp:lastModifiedBy>
  <dcterms:modified xsi:type="dcterms:W3CDTF">2008-06-02T15:47:56Z</dcterms:modified>
  <cp:revision>5</cp:revision>
  <dc:subject/>
  <dc:title>Water pollution in China</dc:title>
</cp:coreProperties>
</file>