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C0CF-B76E-4C38-BDD2-30E5CABD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3797-A0FE-4BF2-8DAE-3F0DBC34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C798-0CF1-45AC-92A4-F7C4F7DC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4D82-D66F-47BB-A962-376C5958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473F-2CF6-45EC-8DF5-1815A47E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57EA-F859-45B0-8A38-073648C9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7069-71B9-4E24-8E24-22E42168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E186-5A3F-4AAB-ABD9-5E3D8152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630B-60F7-41FA-A411-6912B981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8775-A6EE-4298-AC9E-94FF81FA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1E09-EABF-414D-925D-C6A20F74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22B0-5565-43C6-9605-B7B43312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68AF-41DA-4973-B557-29D322D2C1A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51920" y="838080"/>
            <a:ext cx="86108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Papyrus"/>
                <a:ea typeface="宋体"/>
              </a:rPr>
              <a:t>	</a:t>
            </a:r>
            <a:r>
              <a:rPr b="0" lang="zh-CN" sz="4000" spc="-1" strike="noStrike">
                <a:solidFill>
                  <a:srgbClr val="ffffff"/>
                </a:solidFill>
                <a:latin typeface="Papyrus"/>
                <a:ea typeface="宋体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Papyrus"/>
                <a:ea typeface="宋体"/>
              </a:rPr>
              <a:t>Aloha! This is the King of Plastic Bags and I am proud to tell you that we’re going to dominate your planet one day! Muhaha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pyrus"/>
                <a:ea typeface="宋体"/>
              </a:rPr>
              <a:t>I am so happy to see you guys carrying plastic bags everyday and how millions of sea animals die because of us. Muhahah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pyrus"/>
                <a:ea typeface="宋体"/>
              </a:rPr>
              <a:t>HATE the person who designed this stupid bag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7400" y="152280"/>
            <a:ext cx="486108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362320" y="304920"/>
            <a:ext cx="4343400" cy="441936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Papyrus"/>
                <a:ea typeface="宋体"/>
              </a:rPr>
              <a:t>things that you guys are do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I’ve heard that the Chinese government is going to ban free plastic bags in grocery stores …dar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So as the Hong Kong governm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So as the Australian governm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So as the Japanese governm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And some other countries as wel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OH NO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Papyrus"/>
                <a:ea typeface="宋体"/>
              </a:rPr>
              <a:t>Now…a message from the </a:t>
            </a:r>
            <a:r>
              <a:rPr b="1" lang="en-US" sz="6000" spc="-1" strike="noStrike">
                <a:solidFill>
                  <a:srgbClr val="ffff00"/>
                </a:solidFill>
                <a:latin typeface="Papyrus"/>
                <a:ea typeface="宋体"/>
              </a:rPr>
              <a:t>K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830556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Carry more plastic bag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Don’t reuse plastic bag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NEVER get your own shopping bag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Dump plastic bags into the ocean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Put ‘use more plastic bags’ on your faceb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Encourage everyone to use more PB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837720" y="685440"/>
            <a:ext cx="72392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7200" spc="-1" strike="noStrike">
                <a:solidFill>
                  <a:srgbClr val="ffff00"/>
                </a:solidFill>
                <a:latin typeface="Papyrus"/>
                <a:ea typeface="楷体_GB2312"/>
              </a:rPr>
              <a:t>Remember:</a:t>
            </a:r>
            <a:r>
              <a:rPr b="1" lang="en-US" sz="7200" spc="-1" strike="noStrike">
                <a:solidFill>
                  <a:srgbClr val="ffffff"/>
                </a:solidFill>
                <a:latin typeface="Papyrus"/>
                <a:ea typeface="楷体_GB2312"/>
              </a:rPr>
              <a:t> The Plastic Kingdom will </a:t>
            </a:r>
            <a:r>
              <a:rPr b="1" lang="en-US" sz="7200" spc="-1" strike="noStrike">
                <a:solidFill>
                  <a:srgbClr val="ff0000"/>
                </a:solidFill>
                <a:latin typeface="Papyrus"/>
                <a:ea typeface="楷体_GB2312"/>
              </a:rPr>
              <a:t>dominate </a:t>
            </a:r>
            <a:r>
              <a:rPr b="1" lang="en-US" sz="7200" spc="-1" strike="noStrike">
                <a:solidFill>
                  <a:srgbClr val="ffffff"/>
                </a:solidFill>
                <a:latin typeface="Papyrus"/>
                <a:ea typeface="楷体_GB2312"/>
              </a:rPr>
              <a:t>your world one da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Papyrus"/>
                <a:ea typeface="宋体"/>
              </a:rPr>
              <a:t>	</a:t>
            </a:r>
            <a:r>
              <a:rPr b="1" lang="en-US" sz="8000" spc="-1" strike="noStrike">
                <a:solidFill>
                  <a:srgbClr val="ffffff"/>
                </a:solidFill>
                <a:latin typeface="Papyrus"/>
                <a:ea typeface="宋体"/>
              </a:rPr>
              <a:t>and there is </a:t>
            </a:r>
            <a:r>
              <a:rPr b="1" lang="en-US" sz="8000" spc="-1" strike="noStrike">
                <a:solidFill>
                  <a:srgbClr val="ff0000"/>
                </a:solidFill>
                <a:latin typeface="Papyrus"/>
                <a:ea typeface="宋体"/>
              </a:rPr>
              <a:t>NOTHING</a:t>
            </a:r>
            <a:r>
              <a:rPr b="1" lang="en-US" sz="8000" spc="-1" strike="noStrike">
                <a:solidFill>
                  <a:srgbClr val="ffffff"/>
                </a:solidFill>
                <a:latin typeface="Papyrus"/>
                <a:ea typeface="宋体"/>
              </a:rPr>
              <a:t> you can do to help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ffffff"/>
                </a:solidFill>
                <a:latin typeface="Papyrus"/>
                <a:ea typeface="宋体"/>
              </a:rPr>
              <a:t>	</a:t>
            </a:r>
            <a:r>
              <a:rPr b="1" lang="en-US" sz="12500" spc="-1" strike="noStrike">
                <a:solidFill>
                  <a:srgbClr val="ffffff"/>
                </a:solidFill>
                <a:latin typeface="Papyrus"/>
                <a:ea typeface="宋体"/>
              </a:rPr>
              <a:t>THANK YOU!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600"/>
                            </p:stCondLst>
                            <p:childTnLst>
                              <p:par>
                                <p:cTn id="3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4745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972040" cy="3943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352680" y="4572000"/>
            <a:ext cx="548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Oh poor sea turtle is going to die because of us! How sad (not)! He thought we were jellyfish…how stupi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Now that’s a real jellyfish! Actually… it’s not. It’s another plastic bag in the ocean. Fantastic disguise, 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038480" y="1447920"/>
            <a:ext cx="44974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apyrus"/>
                <a:ea typeface="宋体"/>
              </a:rPr>
              <a:t>I’m going to show you this other really cool picture…get ready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pyrus"/>
                <a:ea typeface="宋体"/>
              </a:rPr>
              <a:t>Wow! I’m so proud of my babie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lastic bags clut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33412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apyrus"/>
                <a:ea typeface="宋体"/>
              </a:rPr>
              <a:t>Oh, what a LOVELY picture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Papyrus"/>
                <a:ea typeface="宋体"/>
              </a:rPr>
              <a:t>Plastic Babies Univers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Papyrus"/>
                <a:ea typeface="宋体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In order for plastic bags to graduate from the Plastic Bag University, they need to learn how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Clutter landf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Clog roadside d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Disguise as jelly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Harm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Get rid of natural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Papyrus"/>
                <a:ea typeface="宋体"/>
              </a:rPr>
              <a:t>Where my babies are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5800" y="274320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Papyrus"/>
                <a:ea typeface="宋体"/>
              </a:rPr>
              <a:t>EVERYWHERE!! MUHAHAHA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Papyrus"/>
                <a:ea typeface="宋体"/>
              </a:rPr>
              <a:t>Things that we don’t like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11:41Z</dcterms:created>
  <dc:creator>User</dc:creator>
  <dc:description/>
  <dc:language>en-US</dc:language>
  <cp:lastModifiedBy>John Sze</cp:lastModifiedBy>
  <dcterms:modified xsi:type="dcterms:W3CDTF">2008-06-01T13:13:53Z</dcterms:modified>
  <cp:revision>91</cp:revision>
  <dc:subject/>
  <dc:title>The Plastic Bag Problem</dc:title>
</cp:coreProperties>
</file>