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000-560E-4369-8966-E9599635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BCB-8F8A-4562-AC84-6755522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2E-1807-4875-87CF-A632B295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4B6-06FB-4CA8-B6A9-4DCEF90E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C9E-8FFF-4D08-ABF3-0441F6B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B31-A32A-44CB-9671-DC1F098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8D9-1C1A-4447-9BDD-B27B1B3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D1A-CC0C-4D84-B3AC-219B82C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ABD-CCE9-4A7F-B27C-5E06EDB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9F9-69CB-4884-B67E-B7CC580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856-BFF7-4613-B09E-DFE2ABE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0A4-DC13-4B6D-98B5-71C1C26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7F0-30AE-49B9-A9F2-018C572521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610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Aloha! This is the King of Plastic Bags and I am proud to tell you that we’re going to dominate your planet one day! Muhaha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I am so happy to see you guys carrying plastic bags everyday and how millions of sea animals die because of us. Muhaha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HATE the person who designed this stupid b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8610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304920"/>
            <a:ext cx="4343400" cy="4419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  <a:ea typeface="宋体"/>
              </a:rPr>
              <a:t>things that you guys are do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’ve heard that the Chinese government is going to ban free plastic bags in grocery stores …d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Hong Kong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Australian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Japanese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And some other countries as w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N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Now…a message from the </a:t>
            </a:r>
            <a:r>
              <a:rPr b="1" lang="en-US" sz="6000" spc="-1" strike="noStrike">
                <a:solidFill>
                  <a:srgbClr val="ffff00"/>
                </a:solidFill>
                <a:latin typeface="Papyrus"/>
                <a:ea typeface="宋体"/>
              </a:rPr>
              <a:t>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arry more plastic bag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on’t reuse plastic bag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EVER get your own shopping 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ump plastic bags into the oce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Put ‘use more plastic bags’ on your face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Encourage everyone to use more PB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685440"/>
            <a:ext cx="72392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Papyrus"/>
                <a:ea typeface="楷体_GB2312"/>
              </a:rPr>
              <a:t>Remember: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 The Plastic Kingdom will </a:t>
            </a:r>
            <a:r>
              <a:rPr b="1" lang="en-US" sz="7200" spc="-1" strike="noStrike">
                <a:solidFill>
                  <a:srgbClr val="ff0000"/>
                </a:solidFill>
                <a:latin typeface="Papyrus"/>
                <a:ea typeface="楷体_GB2312"/>
              </a:rPr>
              <a:t>dominate 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your world on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and there is </a:t>
            </a: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宋体"/>
              </a:rPr>
              <a:t>NOTHING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 you can do to help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12500" spc="-1" strike="noStrike">
                <a:solidFill>
                  <a:srgbClr val="ffffff"/>
                </a:solidFill>
                <a:latin typeface="Papyrus"/>
                <a:ea typeface="宋体"/>
              </a:rPr>
              <a:t>THANK YOU!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6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972040" cy="39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52680" y="457200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poor sea turtle is going to die because of us! How sad (not)! He thought we were jellyfish…how stup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ow that’s a real jellyfish! Actually… it’s not. It’s another plastic bag in the ocean. Fantastic disgui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9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  <a:ea typeface="宋体"/>
              </a:rPr>
              <a:t>I’m going to show you this other really cool picture…get ready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  <a:ea typeface="宋体"/>
              </a:rPr>
              <a:t>Wow! I’m so proud of my babi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lastic bags cl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Oh, what a LOVELY picture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apyrus"/>
                <a:ea typeface="宋体"/>
              </a:rPr>
              <a:t>Plastic Babies Un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n order for plastic bags to graduate from the Plastic Bag University, they need to learn how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utter landf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og roadside d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isguise as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Har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Get rid of natural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  <a:ea typeface="宋体"/>
              </a:rPr>
              <a:t>Where my babies are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2743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EVERYWHERE!! MUHAHAH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  <a:ea typeface="宋体"/>
              </a:rPr>
              <a:t>Things that we don’t lik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1:41Z</dcterms:created>
  <dc:creator>User</dc:creator>
  <dc:description/>
  <dc:language>en-US</dc:language>
  <cp:lastModifiedBy>John Sze</cp:lastModifiedBy>
  <dcterms:modified xsi:type="dcterms:W3CDTF">2008-06-01T13:13:53Z</dcterms:modified>
  <cp:revision>91</cp:revision>
  <dc:subject/>
  <dc:title>The Plastic Bag Problem</dc:title>
</cp:coreProperties>
</file>