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75B29-1C95-4791-A147-85DDBE3EA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42ADF-2052-46A3-9203-EEFD630D2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5996B-3AA6-4C3B-B273-C11E252A3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7E9BE-3483-4A51-B11A-21376747D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45314-A75C-4BDA-A353-5DB20CDE2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E8904-4B97-47AD-B315-CBE5895D7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D8F7F-E5BF-4194-A7D3-69EE071B9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210E0-F4AA-4613-9335-15D872405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6C319-E30E-45F7-AE3A-5D598B95F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A221C-4CFD-4128-8BA0-259CA548D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C0F5E-BC5F-4129-A032-386C0E3F4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B1A8A-F005-425F-A488-4F78555D9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C762A-0ED2-42B3-97D3-9D9F033976E1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j0214098.wav" TargetMode="External"/><Relationship Id="rId2" Type="http://schemas.microsoft.com/office/2007/relationships/media" Target="file:///tmp/home/.config/libreoffice/4/user/gallery/j0214098.wav" TargetMode="External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51920" y="838080"/>
            <a:ext cx="861084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Papyrus"/>
                <a:ea typeface="宋体"/>
              </a:rPr>
              <a:t>	</a:t>
            </a:r>
            <a:r>
              <a:rPr b="0" lang="zh-CN" sz="4000" spc="-1" strike="noStrike">
                <a:solidFill>
                  <a:srgbClr val="ffffff"/>
                </a:solidFill>
                <a:latin typeface="Papyrus"/>
                <a:ea typeface="宋体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Papyrus"/>
                <a:ea typeface="宋体"/>
              </a:rPr>
              <a:t>Aloha! This is the King of Plastic Bags and I am proud to tell you that we’re going to dominate your planet one day! Muhahah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Papyrus"/>
                <a:ea typeface="宋体"/>
              </a:rPr>
              <a:t>I am so happy to see you guys carrying plastic bags everyday and how millions of sea animals die because of us. Muhahaha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5028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Papyrus"/>
                <a:ea typeface="宋体"/>
              </a:rPr>
              <a:t>HATE the person who designed this stupid bag!!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057400" y="152280"/>
            <a:ext cx="4861080" cy="45259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362320" y="304920"/>
            <a:ext cx="4343400" cy="4419360"/>
          </a:xfrm>
          <a:prstGeom prst="noSmoking">
            <a:avLst>
              <a:gd name="adj" fmla="val 125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9" dur="80"/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0" dur="80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1" dur="80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Papyrus"/>
                <a:ea typeface="宋体"/>
              </a:rPr>
              <a:t>things that you guys are doing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pyrus"/>
                <a:ea typeface="宋体"/>
              </a:rPr>
              <a:t>I’ve heard that the Chinese government is going to ban free plastic bags in grocery stores …darn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pyrus"/>
                <a:ea typeface="宋体"/>
              </a:rPr>
              <a:t>So as the Hong Kong government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pyrus"/>
                <a:ea typeface="宋体"/>
              </a:rPr>
              <a:t>So as the Australian government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pyrus"/>
                <a:ea typeface="宋体"/>
              </a:rPr>
              <a:t>So as the Japanese government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pyrus"/>
                <a:ea typeface="宋体"/>
              </a:rPr>
              <a:t>And some other countries as well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pyrus"/>
                <a:ea typeface="宋体"/>
              </a:rPr>
              <a:t>OH NO!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8" dur="80"/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9" dur="80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0" dur="80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5" dur="8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6" dur="8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7" dur="8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2" dur="8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3" dur="8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4" dur="8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9" dur="8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0" dur="8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1" dur="8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6" dur="8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7" dur="8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8" dur="8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3" dur="8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4" dur="8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5" dur="8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0" dur="80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1" dur="80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2" dur="80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Papyrus"/>
                <a:ea typeface="宋体"/>
              </a:rPr>
              <a:t>Now…a message from the </a:t>
            </a:r>
            <a:r>
              <a:rPr b="1" lang="en-US" sz="6000" spc="-1" strike="noStrike">
                <a:solidFill>
                  <a:srgbClr val="ffff00"/>
                </a:solidFill>
                <a:latin typeface="Papyrus"/>
                <a:ea typeface="宋体"/>
              </a:rPr>
              <a:t>KIN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160" y="2590920"/>
            <a:ext cx="830556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pyrus"/>
                <a:ea typeface="宋体"/>
              </a:rPr>
              <a:t>Carry more plastic bags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pyrus"/>
                <a:ea typeface="宋体"/>
              </a:rPr>
              <a:t>Don’t reuse plastic bags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pyrus"/>
                <a:ea typeface="宋体"/>
              </a:rPr>
              <a:t>NEVER get your own shopping bag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pyrus"/>
                <a:ea typeface="宋体"/>
              </a:rPr>
              <a:t>Dump plastic bags into the ocean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pyrus"/>
                <a:ea typeface="宋体"/>
              </a:rPr>
              <a:t>Put ‘use more plastic bags’ on your facebook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pyrus"/>
                <a:ea typeface="宋体"/>
              </a:rPr>
              <a:t>Encourage everyone to use more PB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9" dur="80"/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0" dur="80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1" dur="80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6" dur="8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7" dur="8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8" dur="8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3" dur="8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4" dur="8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5" dur="8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0" dur="8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1" dur="8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2" dur="8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7" dur="8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8" dur="8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9" dur="8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4" dur="8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5" dur="8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6" dur="8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1" dur="80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2" dur="80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3" dur="80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837720" y="685440"/>
            <a:ext cx="723924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1" lang="en-US" sz="7200" spc="-1" strike="noStrike">
                <a:solidFill>
                  <a:srgbClr val="ffff00"/>
                </a:solidFill>
                <a:latin typeface="Papyrus"/>
                <a:ea typeface="楷体_GB2312"/>
              </a:rPr>
              <a:t>Remember:</a:t>
            </a:r>
            <a:r>
              <a:rPr b="1" lang="en-US" sz="7200" spc="-1" strike="noStrike">
                <a:solidFill>
                  <a:srgbClr val="ffffff"/>
                </a:solidFill>
                <a:latin typeface="Papyrus"/>
                <a:ea typeface="楷体_GB2312"/>
              </a:rPr>
              <a:t> The Plastic Kingdom will </a:t>
            </a:r>
            <a:r>
              <a:rPr b="1" lang="en-US" sz="7200" spc="-1" strike="noStrike">
                <a:solidFill>
                  <a:srgbClr val="ff0000"/>
                </a:solidFill>
                <a:latin typeface="Papyrus"/>
                <a:ea typeface="楷体_GB2312"/>
              </a:rPr>
              <a:t>dominate </a:t>
            </a:r>
            <a:r>
              <a:rPr b="1" lang="en-US" sz="7200" spc="-1" strike="noStrike">
                <a:solidFill>
                  <a:srgbClr val="ffffff"/>
                </a:solidFill>
                <a:latin typeface="Papyrus"/>
                <a:ea typeface="楷体_GB2312"/>
              </a:rPr>
              <a:t>your world one day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0" dur="8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1" dur="8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2" dur="8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ffff"/>
                </a:solidFill>
                <a:latin typeface="Papyrus"/>
                <a:ea typeface="宋体"/>
              </a:rPr>
              <a:t>	</a:t>
            </a:r>
            <a:r>
              <a:rPr b="1" lang="en-US" sz="8000" spc="-1" strike="noStrike">
                <a:solidFill>
                  <a:srgbClr val="ffffff"/>
                </a:solidFill>
                <a:latin typeface="Papyrus"/>
                <a:ea typeface="宋体"/>
              </a:rPr>
              <a:t>and there is </a:t>
            </a:r>
            <a:r>
              <a:rPr b="1" lang="en-US" sz="8000" spc="-1" strike="noStrike">
                <a:solidFill>
                  <a:srgbClr val="ff0000"/>
                </a:solidFill>
                <a:latin typeface="Papyrus"/>
                <a:ea typeface="宋体"/>
              </a:rPr>
              <a:t>NOTHING</a:t>
            </a:r>
            <a:r>
              <a:rPr b="1" lang="en-US" sz="8000" spc="-1" strike="noStrike">
                <a:solidFill>
                  <a:srgbClr val="ffffff"/>
                </a:solidFill>
                <a:latin typeface="Papyrus"/>
                <a:ea typeface="宋体"/>
              </a:rPr>
              <a:t> you can do to help!!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9" dur="8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0" dur="8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1" dur="8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3049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31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500" spc="-1" strike="noStrike">
                <a:solidFill>
                  <a:srgbClr val="ffffff"/>
                </a:solidFill>
                <a:latin typeface="Papyrus"/>
                <a:ea typeface="宋体"/>
              </a:rPr>
              <a:t>	</a:t>
            </a:r>
            <a:r>
              <a:rPr b="1" lang="en-US" sz="12500" spc="-1" strike="noStrike">
                <a:solidFill>
                  <a:srgbClr val="ffffff"/>
                </a:solidFill>
                <a:latin typeface="Papyrus"/>
                <a:ea typeface="宋体"/>
              </a:rPr>
              <a:t>THANK YOU!</a:t>
            </a:r>
            <a:endParaRPr b="0" lang="en-US" sz="1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610480" y="6324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98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99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0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01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3600"/>
                            </p:stCondLst>
                            <p:childTnLst>
                              <p:par>
                                <p:cTn id="30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4" dur="4745" fill="hold"/>
                                        <p:tgtEl>
                                          <p:spTgt spid="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68"/>
                </p:tgtEl>
              </p:cMediaNode>
            </p:audio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5972040" cy="39430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3352680" y="4572000"/>
            <a:ext cx="54864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pyrus"/>
                <a:ea typeface="宋体"/>
              </a:rPr>
              <a:t>Oh poor sea turtle is going to die because of us! How sad (not)! He thought we were jellyfish…how stupi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" dur="8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8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228600" y="1600200"/>
            <a:ext cx="358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Papyrus"/>
                <a:ea typeface="宋体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Papyrus"/>
                <a:ea typeface="宋体"/>
              </a:rPr>
              <a:t>Now that’s a real jellyfish! Actually… it’s not. It’s another plastic bag in the ocean. Fantastic disguise, righ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038480" y="1447920"/>
            <a:ext cx="4497480" cy="45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" dur="8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" dur="8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" dur="8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361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Papyrus"/>
                <a:ea typeface="宋体"/>
              </a:rPr>
              <a:t>I’m going to show you this other really cool picture…get ready..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Papyrus"/>
                <a:ea typeface="宋体"/>
              </a:rPr>
              <a:t>Wow! I’m so proud of my babies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Plastic bags clut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828800" y="1676520"/>
            <a:ext cx="5334120" cy="42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" dur="80"/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" dur="80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" dur="80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Papyrus"/>
                <a:ea typeface="宋体"/>
              </a:rPr>
              <a:t>Oh, what a LOVELY picture </a:t>
            </a:r>
            <a:r>
              <a:rPr b="1" lang="en-US" sz="40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600200" y="1981080"/>
            <a:ext cx="60958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9" dur="80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" dur="80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" dur="80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Papyrus"/>
                <a:ea typeface="宋体"/>
              </a:rPr>
              <a:t>Plastic Babies Universit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Papyrus"/>
                <a:ea typeface="宋体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Papyrus"/>
                <a:ea typeface="宋体"/>
              </a:rPr>
              <a:t>In order for plastic bags to graduate from the Plastic Bag University, they need to learn how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pyrus"/>
                <a:ea typeface="宋体"/>
              </a:rPr>
              <a:t>Clutter landfi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pyrus"/>
                <a:ea typeface="宋体"/>
              </a:rPr>
              <a:t>Clog roadside dra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pyrus"/>
                <a:ea typeface="宋体"/>
              </a:rPr>
              <a:t>Disguise as jellyfi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pyrus"/>
                <a:ea typeface="宋体"/>
              </a:rPr>
              <a:t>Harm the enviro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pyrus"/>
                <a:ea typeface="宋体"/>
              </a:rPr>
              <a:t>Get rid of natural o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8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9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5" dur="8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6" dur="8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" dur="8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0" dur="8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1" dur="8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" dur="8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5" dur="8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6" dur="8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" dur="8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0" dur="8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1" dur="8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" dur="8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5" dur="8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6" dur="8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" dur="8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0" dur="8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1" dur="8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" dur="8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Papyrus"/>
                <a:ea typeface="宋体"/>
              </a:rPr>
              <a:t>Where my babies are.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133720" y="1600200"/>
            <a:ext cx="4572000" cy="4572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85800" y="2743200"/>
            <a:ext cx="7924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Papyrus"/>
                <a:ea typeface="宋体"/>
              </a:rPr>
              <a:t>EVERYWHERE!! MUHAHAHA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9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0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1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6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1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2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3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81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Papyrus"/>
                <a:ea typeface="宋体"/>
              </a:rPr>
              <a:t>Things that we don’t like…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0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1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2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30T02:11:41Z</dcterms:created>
  <dc:creator>User</dc:creator>
  <dc:description/>
  <dc:language>en-US</dc:language>
  <cp:lastModifiedBy>John Sze</cp:lastModifiedBy>
  <dcterms:modified xsi:type="dcterms:W3CDTF">2008-06-01T13:13:53Z</dcterms:modified>
  <cp:revision>91</cp:revision>
  <dc:subject/>
  <dc:title>The Plastic Bag Problem</dc:title>
</cp:coreProperties>
</file>