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B9F-09DB-468C-8D11-C16D5FB9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054-C964-4A5D-82CD-9D3A7C50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858-B1C5-4D4A-914A-75AA3F63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FFC-A5AF-4540-B837-E43399CD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3409-4370-4810-A690-3FA10DA0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300D-79C7-40DB-9515-9D015470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D39C-E8F5-4CC4-A023-27036290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49E-E01C-4C9C-A460-E59B2B69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F50-28EF-48E3-A93C-F731448D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81C-29F9-4163-87E7-ED836E3E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A74-ABAF-431C-8F79-6DCE0B6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78D-B7E4-43C5-8E51-0886E1E5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E10A-4152-4F4D-AD0C-5F735047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782-E229-4CD9-A7DB-449DF7E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E0F-95C0-4B91-81DD-ADBA16C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E1C8-D06E-4E67-B630-D66B9C07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D8AA-B85D-4DE8-817A-841BBF23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356-EC24-40DE-AAAC-D015F8F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851-BB76-4E77-9B69-93920DC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673-8188-416F-9B0E-CF83217B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741-B8E8-415C-A978-0CFC8E4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F0A-810D-4B32-A5FD-5557F91C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B06-4413-4F88-A283-CABB27F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4A9-CCDC-49A0-9638-96663AD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7030-E72E-4932-9C93-B8724FAD0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37E-B1E8-4004-8CB6-A1A6B7F72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zonelayer.noaa.gov/science/basics.htm%3E.%3Cspan" TargetMode="External"/><Relationship Id="rId2" Type="http://schemas.openxmlformats.org/officeDocument/2006/relationships/hyperlink" Target="http://www.ozonelayer.noaa.gov/science/basics.htm%3E.%3Cspan" TargetMode="External"/><Relationship Id="rId3" Type="http://schemas.openxmlformats.org/officeDocument/2006/relationships/hyperlink" Target="http://www.ozonelayer.noaa.gov/science/basics.htm%3E.%3Cspan" TargetMode="External"/><Relationship Id="rId4" Type="http://schemas.openxmlformats.org/officeDocument/2006/relationships/hyperlink" Target="http://www.ciese.org/curriculum/airproj/ozoneprimer.html%3E.%3C/span" TargetMode="External"/><Relationship Id="rId5" Type="http://schemas.openxmlformats.org/officeDocument/2006/relationships/hyperlink" Target="http://www.ciese.org/curriculum/airproj/ozoneprimer.html%3E.%3C/span" TargetMode="External"/><Relationship Id="rId6" Type="http://schemas.openxmlformats.org/officeDocument/2006/relationships/hyperlink" Target="http://www.ciese.org/curriculum/airproj/ozoneprimer.html%3E.%3C/span" TargetMode="External"/><Relationship Id="rId7" Type="http://schemas.openxmlformats.org/officeDocument/2006/relationships/hyperlink" Target="http://en.wikipedia.org/wiki/Ozone_depletion%3E.%3C/span" TargetMode="External"/><Relationship Id="rId8" Type="http://schemas.openxmlformats.org/officeDocument/2006/relationships/hyperlink" Target="http://en.wikipedia.org/wiki/Ozone_depletion%3E.%3C/span" TargetMode="External"/><Relationship Id="rId9" Type="http://schemas.openxmlformats.org/officeDocument/2006/relationships/hyperlink" Target="http://en.wikipedia.org/wiki/Ozone_depletion%3E.%3C/span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Ozone Deple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Susan Je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pcoming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276640"/>
            <a:ext cx="3027240" cy="32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80000" y="2276640"/>
            <a:ext cx="3022560" cy="32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ozone deple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ozone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otection from ultra violet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sphere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284640"/>
            <a:ext cx="3959280" cy="309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uses i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(Chlorofluorocarb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nt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2852640"/>
            <a:ext cx="4032000" cy="230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852640"/>
            <a:ext cx="2232000" cy="316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it such a big de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the health of inhab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 the cr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 bac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851280" y="3283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11600" y="3227400"/>
            <a:ext cx="17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can we do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uy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non-halon containing fire extinguish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using polystyrene foam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to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car air conditio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w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letters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n computer off before you go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 we need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halon containing fire extinguis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CFCs containing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container so that it cannot be evaporat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alternative in fast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-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 worked !!! OH YEA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te of ozone depletion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ulation of skin cancer de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sher, Marshall.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Ozone Lay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ew York: Chelsea House, 1992. 75-8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eason, Karlean L. "Science: the Ozone Basics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DA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 Mar. 2008. 12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ozonelayer.noaa.gov/science/basics.htm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&gt;.&lt;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yle="mso-tab-count: 1"&g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Ground Level Ozone Prim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ir Polltion:What's the Solution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tevens Institution of Technology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ciese.org/curriculum/airproj/ozoneprimer.html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9 May 2008. Wikimedia,Foundation, Inc. 10 May 2008 &lt;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en.wikipedia.org/wiki/Ozone_depletion</a:t>
            </a:r>
            <a:r>
              <a:rPr b="0" lang="en-US" sz="1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&gt;.&lt;/sp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rell, John. "Ozone Layer Maybe on the Mend, New Data Suggest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5 Aug. 2003. National Geographic Society. 10 May 2008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http://news.nationalgeographic.com/news/2003/08/0805_030805_ozone.html&gt;.&lt;/span&gt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rling, Brien. "The Ozone Layer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30 May 2001. Nasa Official: Walts Brooks. 10 May 2008 &lt;http://www.nas.nasa.gov/About/Education/Ozone/ozonelayer.html&gt;.&lt;/span&gt;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.john, Stephen G. "Ozone Depletion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National Geograph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National Geographic Society. 10 May 2008 &lt;http://science.nationalgeographic.com/science/environment/environmental-&lt;span style="mso-tab-count: 1"&gt; threats/ozone-depletion-overview.html&gt;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"The Ozone Layer: Past, Present. Future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cleclic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2008. 2008 Articleclick.Com Free Articles. 10 May 2008 &lt;http://www.articleclick.com/the-ozone-layer-&lt;span style="mso-tab-count: 1"&gt; past,-present,-and-future.html&gt;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7:47Z</dcterms:created>
  <dc:creator>User</dc:creator>
  <dc:description/>
  <dc:language>en-US</dc:language>
  <cp:lastModifiedBy>User</cp:lastModifiedBy>
  <dcterms:modified xsi:type="dcterms:W3CDTF">2008-05-30T03:18:09Z</dcterms:modified>
  <cp:revision>7</cp:revision>
  <dc:subject/>
  <dc:title>The Ozone Depletion</dc:title>
</cp:coreProperties>
</file>