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671-E5D1-47F3-85B1-B1F80790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9B4-AA0F-4405-897F-DBF43A29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113-A0A2-46F2-823A-0790A6A9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3BF-AC2F-4AC9-B484-870C3068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30E4-A66C-4369-83A1-166A5334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1796-F243-4BF4-AE98-D25E93A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53A2-A309-4E29-880E-76B488F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778C-9A62-42A7-B418-14197592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51B-46B7-4AE4-B657-ADA9936F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96E8-4100-47B0-8D8F-46E50648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D051-27B6-4343-BEBA-461CD1D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46D-FBEE-47AA-A2D0-DE080A6B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3EA1-7E52-4332-9394-CB5D953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2403-1B3D-45A8-BBDA-E6D7062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82FF-72B5-41D8-833C-2331635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92E1-5CAB-4512-AF30-97CBC57D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B6DE-5DB5-4A3C-A529-B16D01A3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862-62AF-42D2-85AE-6AA9B28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C7B-ACA9-4647-8D40-798EF363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B11-4071-4AF9-9E51-C62C933C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A5C-BB77-41A6-9F2E-ACE42F64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F60-4534-40AD-8EA7-368CC655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920-BFB8-40EA-8921-6494CDD2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B75-DC95-40D5-BB2D-902CA0C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7D7B-0DEF-4029-A829-FCFA9020C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0162-5D46-48B8-A366-0BBB1D618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zonelayer.noaa.gov/science/basics.htm%3E.%3Cspan" TargetMode="External"/><Relationship Id="rId2" Type="http://schemas.openxmlformats.org/officeDocument/2006/relationships/hyperlink" Target="http://www.ozonelayer.noaa.gov/science/basics.htm%3E.%3Cspan" TargetMode="External"/><Relationship Id="rId3" Type="http://schemas.openxmlformats.org/officeDocument/2006/relationships/hyperlink" Target="http://www.ozonelayer.noaa.gov/science/basics.htm%3E.%3Cspan" TargetMode="External"/><Relationship Id="rId4" Type="http://schemas.openxmlformats.org/officeDocument/2006/relationships/hyperlink" Target="http://www.ciese.org/curriculum/airproj/ozoneprimer.html%3E.%3C/span" TargetMode="External"/><Relationship Id="rId5" Type="http://schemas.openxmlformats.org/officeDocument/2006/relationships/hyperlink" Target="http://www.ciese.org/curriculum/airproj/ozoneprimer.html%3E.%3C/span" TargetMode="External"/><Relationship Id="rId6" Type="http://schemas.openxmlformats.org/officeDocument/2006/relationships/hyperlink" Target="http://www.ciese.org/curriculum/airproj/ozoneprimer.html%3E.%3C/span" TargetMode="External"/><Relationship Id="rId7" Type="http://schemas.openxmlformats.org/officeDocument/2006/relationships/hyperlink" Target="http://en.wikipedia.org/wiki/Ozone_depletion%3E.%3C/span" TargetMode="External"/><Relationship Id="rId8" Type="http://schemas.openxmlformats.org/officeDocument/2006/relationships/hyperlink" Target="http://en.wikipedia.org/wiki/Ozone_depletion%3E.%3C/span" TargetMode="External"/><Relationship Id="rId9" Type="http://schemas.openxmlformats.org/officeDocument/2006/relationships/hyperlink" Target="http://en.wikipedia.org/wiki/Ozone_depletion%3E.%3C/span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Ozone Deple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Susan Je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pcoming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276640"/>
            <a:ext cx="3027240" cy="324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2276640"/>
            <a:ext cx="3022560" cy="324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ozone deple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of ozone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otection from ultra violet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sphere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284640"/>
            <a:ext cx="3959280" cy="309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uses i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Cs (Chlorofluorocarb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nt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2852640"/>
            <a:ext cx="403200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852640"/>
            <a:ext cx="223200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it such a big de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s the health of inhabit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 the cr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 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51280" y="328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11600" y="3227400"/>
            <a:ext cx="17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n we do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uy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non-halon containing fire extinguis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using polystyrene foam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to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car air conditi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n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w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n computer off before you go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we need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halon containing fire extingui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CFCs containing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container so that it cannot be evaporated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alternative in fast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-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 worked !!! OH YE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te of ozone depletion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ulation of skin cancer de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sher, Marshall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Ozone Lay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ew York: Chelsea House, 1992. 75-8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eason, Karlean L. "Science: the Ozone Basics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DA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 Mar. 2008. 12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ozonelayer.noaa.gov/science/basics.htm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&gt;.&lt;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yle="mso-tab-count: 1"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Ground Level Ozone Prim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ir Polltion:What's the Solution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evens Institution of Technology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ciese.org/curriculum/airproj/ozoneprimer.html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9 May 2008. Wikimedia,Foundation, Inc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en.wikipedia.org/wiki/Ozone_depletion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rell, John. "Ozone Layer Maybe on the Mend, New Data Suggest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5 Aug. 2003. National Geographic Society. 10 May 2008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news.nationalgeographic.com/news/2003/08/0805_030805_ozone.html&gt;.&lt;/span&gt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rling, Brien. "The Ozone Lay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30 May 2001. Nasa Official: Walts Brooks. 10 May 2008 &lt;http://www.nas.nasa.gov/About/Education/Ozone/ozonelayer.html&gt;.&lt;/span&gt;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.john, Stephen G. 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ational Geographic Society. 10 May 2008 &lt;http://science.nationalgeographic.com/science/environment/environmental-&lt;span style="mso-tab-count: 1"&gt; threats/ozone-depletion-overview.html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The Ozone Layer: Past, Present. Future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cleclic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08. 2008 Articleclick.Com Free Articles. 10 May 2008 &lt;http://www.articleclick.com/the-ozone-layer-&lt;span style="mso-tab-count: 1"&gt; past,-present,-and-future.html&gt;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7:47Z</dcterms:created>
  <dc:creator>User</dc:creator>
  <dc:description/>
  <dc:language>en-US</dc:language>
  <cp:lastModifiedBy>User</cp:lastModifiedBy>
  <dcterms:modified xsi:type="dcterms:W3CDTF">2008-05-30T03:18:09Z</dcterms:modified>
  <cp:revision>7</cp:revision>
  <dc:subject/>
  <dc:title>The Ozone Depletion</dc:title>
</cp:coreProperties>
</file>