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F6AB-6BCB-43E4-8EBC-5E4D27EC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44D8-3D9B-496D-919E-05CB594B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BB37-176B-40DF-95B5-590F54AF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8461-B598-4098-933E-427BF6BF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2235-6C44-4AD6-BA57-E1E1D79F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F7D7-987F-441A-A6C5-7DF8CC7E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DE4F-9AA9-41BD-8A6D-D34FC567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F7F7-A296-4BA6-9111-FAD504DC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0E9B-C006-4A69-9D74-6E7B068A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55A5-1D0F-4BFB-8871-9E7CD8FE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8230-7F43-444F-AAA7-2B0D9352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0BCF-3FCB-4DFC-B699-E5D1651E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5CF8-5E01-4C01-B49C-8E92D940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DE0A-52D5-429C-A681-568F171D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FB46-B1D3-44FE-9362-52FA6646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CC50-12E2-4DA9-A18A-9B661A38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5152-8095-4298-9BC7-A01E5285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3E91-4F05-4312-89E9-92A3B275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79F7-636B-44C0-A390-1870F2A6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ECCF-616E-4ACE-B585-2B282205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A563-6240-4E2F-92A8-B5956BD8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6459-C45F-4724-A43E-21EE6D86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C6AB-4BDD-48F5-98C6-AA66264E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E0CA-FDD6-4305-983B-4F679349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0E5C-DD28-4A24-9228-D5F91B418C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245D-BEA3-4AF6-87DE-58250F6C26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zonelayer.noaa.gov/science/basics.htm%3E.%3Cspan" TargetMode="External"/><Relationship Id="rId2" Type="http://schemas.openxmlformats.org/officeDocument/2006/relationships/hyperlink" Target="http://www.ozonelayer.noaa.gov/science/basics.htm%3E.%3Cspan" TargetMode="External"/><Relationship Id="rId3" Type="http://schemas.openxmlformats.org/officeDocument/2006/relationships/hyperlink" Target="http://www.ozonelayer.noaa.gov/science/basics.htm%3E.%3Cspan" TargetMode="External"/><Relationship Id="rId4" Type="http://schemas.openxmlformats.org/officeDocument/2006/relationships/hyperlink" Target="http://www.ciese.org/curriculum/airproj/ozoneprimer.html%3E.%3C/span" TargetMode="External"/><Relationship Id="rId5" Type="http://schemas.openxmlformats.org/officeDocument/2006/relationships/hyperlink" Target="http://www.ciese.org/curriculum/airproj/ozoneprimer.html%3E.%3C/span" TargetMode="External"/><Relationship Id="rId6" Type="http://schemas.openxmlformats.org/officeDocument/2006/relationships/hyperlink" Target="http://www.ciese.org/curriculum/airproj/ozoneprimer.html%3E.%3C/span" TargetMode="External"/><Relationship Id="rId7" Type="http://schemas.openxmlformats.org/officeDocument/2006/relationships/hyperlink" Target="http://en.wikipedia.org/wiki/Ozone_depletion%3E.%3C/span" TargetMode="External"/><Relationship Id="rId8" Type="http://schemas.openxmlformats.org/officeDocument/2006/relationships/hyperlink" Target="http://en.wikipedia.org/wiki/Ozone_depletion%3E.%3C/span" TargetMode="External"/><Relationship Id="rId9" Type="http://schemas.openxmlformats.org/officeDocument/2006/relationships/hyperlink" Target="http://en.wikipedia.org/wiki/Ozone_depletion%3E.%3C/span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Ozone Deple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 Susan Je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pcoming Fut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2276640"/>
            <a:ext cx="3027240" cy="3241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780000" y="2276640"/>
            <a:ext cx="3022560" cy="3241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ozone deple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truction of ozone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protection from ultra violet 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osphere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3284640"/>
            <a:ext cx="3959280" cy="309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causes it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FCs (Chlorofluorocarb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rigerant liq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2852640"/>
            <a:ext cx="4032000" cy="2305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95640" y="2852640"/>
            <a:ext cx="2232000" cy="3168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it such a big dea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s the health of inhabita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 the cro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an bac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can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3851280" y="328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11600" y="3227400"/>
            <a:ext cx="179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can we do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buy sp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chase non-halon containing fire extinguish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using polystyrene foam produ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letters to compa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car air conditio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n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i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whe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letters month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n computer off before you go b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do we need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 halon containing fire extinguis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 CFCs containing refriger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losed container so that it cannot be evaporated into the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r alternative in fast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-op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f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t worked !!! OH YEA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rate of ozone depletion decr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ulation of skin cancer decr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sher, Marshall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The Ozone Layer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New York: Chelsea House, 1992. 75-8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eason, Karlean L. "Science: the Ozone Basics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NDA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20 Mar. 2008. 12 May 2008 &lt;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www.ozonelayer.noaa.gov/science/basics.htm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&gt;.&lt;spa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style="mso-tab-count: 1"&gt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"Ground Level Ozone Primer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Air Polltion:What's the Solution?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Stevens Institution of Technology. 10 May 2008 &lt;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www.ciese.org/curriculum/airproj/ozoneprimer.html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&gt;.&lt;/spa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"Ozone Depletion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Wikipedi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9 May 2008. Wikimedia,Foundation, Inc. 10 May 2008 &lt;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en.wikipedia.org/wiki/Ozone_depletion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&gt;.&lt;/spa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krell, John. "Ozone Layer Maybe on the Mend, New Data Suggest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National Geographic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5 Aug. 2003. National Geographic Society. 10 May 2008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http://news.nationalgeographic.com/news/2003/08/0805_030805_ozone.html&gt;.&lt;/span&gt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rling, Brien. "The Ozone Layer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NA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30 May 2001. Nasa Official: Walts Brooks. 10 May 2008 &lt;http://www.nas.nasa.gov/About/Education/Ozone/ozonelayer.html&gt;.&lt;/span&gt;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.john, Stephen G. "Ozone Depletion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National Geographic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National Geographic Society. 10 May 2008 &lt;http://science.nationalgeographic.com/science/environment/environmental-&lt;span style="mso-tab-count: 1"&gt; threats/ozone-depletion-overview.html&gt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"The Ozone Layer: Past, Present. Future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Articleclic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2008. 2008 Articleclick.Com Free Articles. 10 May 2008 &lt;http://www.articleclick.com/the-ozone-layer-&lt;span style="mso-tab-count: 1"&gt; past,-present,-and-future.html&gt;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17:47Z</dcterms:created>
  <dc:creator>User</dc:creator>
  <dc:description/>
  <dc:language>en-US</dc:language>
  <cp:lastModifiedBy>User</cp:lastModifiedBy>
  <dcterms:modified xsi:type="dcterms:W3CDTF">2008-05-30T03:18:09Z</dcterms:modified>
  <cp:revision>7</cp:revision>
  <dc:subject/>
  <dc:title>The Ozone Depletion</dc:title>
</cp:coreProperties>
</file>