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A3C-2A46-4AA7-8349-D8B710BC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B99-496A-426B-B4C1-1EFA4965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ABD-938C-4B96-83FC-7F5C80BE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9F2-956C-411F-A6BB-78A04E79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A6DE-AD91-40CF-875A-913C79ED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2582-6C17-48B8-8B0A-46AC7686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2929-8EDB-406F-AA5E-2DBF37CB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8028-CE81-430D-802B-44AA07AF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B4FC-CECB-42C3-BA98-521C9A85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3450-CE1D-4007-B49E-2D0E136A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E5D3-AE1D-4C85-ADC2-A68BC14D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E19-CAEA-4CC5-ABD9-AFA31390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4C63-91F6-492D-AFA4-EC68D368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7EAE-EA39-43A9-A77C-3ED203C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3A78-283C-4400-8852-FC2EFC58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DC3C-4C03-4312-B39D-1465758F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FDDC-D9DF-4A3A-AE0F-8E67C71E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888-72CC-4258-B474-A7B0C73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E9D-0AFE-4FC0-9A99-A67EE3D9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299-28BA-49FE-BC33-A8502C71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A58-4015-4DAB-AD49-CAAACAE7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74B-1C61-4356-B263-7237D842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38C-FD68-44EC-9171-906A393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0EE-FEB8-4F6F-A20B-0227CAC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9E4-A369-44B6-9795-9A06542DA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F0A-8254-462B-BCA8-041D39C60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zonelayer.noaa.gov/science/basics.htm%3E.%3Cspan" TargetMode="External"/><Relationship Id="rId2" Type="http://schemas.openxmlformats.org/officeDocument/2006/relationships/hyperlink" Target="http://www.ozonelayer.noaa.gov/science/basics.htm%3E.%3Cspan" TargetMode="External"/><Relationship Id="rId3" Type="http://schemas.openxmlformats.org/officeDocument/2006/relationships/hyperlink" Target="http://www.ozonelayer.noaa.gov/science/basics.htm%3E.%3Cspan" TargetMode="External"/><Relationship Id="rId4" Type="http://schemas.openxmlformats.org/officeDocument/2006/relationships/hyperlink" Target="http://www.ciese.org/curriculum/airproj/ozoneprimer.html%3E.%3C/span" TargetMode="External"/><Relationship Id="rId5" Type="http://schemas.openxmlformats.org/officeDocument/2006/relationships/hyperlink" Target="http://www.ciese.org/curriculum/airproj/ozoneprimer.html%3E.%3C/span" TargetMode="External"/><Relationship Id="rId6" Type="http://schemas.openxmlformats.org/officeDocument/2006/relationships/hyperlink" Target="http://www.ciese.org/curriculum/airproj/ozoneprimer.html%3E.%3C/span" TargetMode="External"/><Relationship Id="rId7" Type="http://schemas.openxmlformats.org/officeDocument/2006/relationships/hyperlink" Target="http://en.wikipedia.org/wiki/Ozone_depletion%3E.%3C/span" TargetMode="External"/><Relationship Id="rId8" Type="http://schemas.openxmlformats.org/officeDocument/2006/relationships/hyperlink" Target="http://en.wikipedia.org/wiki/Ozone_depletion%3E.%3C/span" TargetMode="External"/><Relationship Id="rId9" Type="http://schemas.openxmlformats.org/officeDocument/2006/relationships/hyperlink" Target="http://en.wikipedia.org/wiki/Ozone_depletion%3E.%3C/span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Ozone Deple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Susan Je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pcoming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276640"/>
            <a:ext cx="3027240" cy="324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2276640"/>
            <a:ext cx="3022560" cy="324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ozone deple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of ozone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otection from ultra violet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sphere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284640"/>
            <a:ext cx="3959280" cy="309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uses i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Cs (Chlorofluorocarb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nt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2852640"/>
            <a:ext cx="403200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2852640"/>
            <a:ext cx="223200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it such a big de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s the health of inhabit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 the cro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 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51280" y="328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11600" y="3227400"/>
            <a:ext cx="17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n we do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uy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 non-halon containing fire extinguis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using polystyrene foam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to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car air conditio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n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w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n computer off before you go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we need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halon containing fire extinguis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CFCs containing refrig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container so that it cannot be evaporated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alternative in fast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-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 worked !!! OH YE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ate of ozone depletion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ulation of skin cancer de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sher, Marshall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Ozone Lay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ew York: Chelsea House, 1992. 75-8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eason, Karlean L. "Science: the Ozone Basics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DA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 Mar. 2008. 12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ozonelayer.noaa.gov/science/basics.htm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&gt;.&lt;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yle="mso-tab-count: 1"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Ground Level Ozone Prim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ir Polltion:What's the Solution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evens Institution of Technology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ciese.org/curriculum/airproj/ozoneprimer.html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9 May 2008. Wikimedia,Foundation, Inc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en.wikipedia.org/wiki/Ozone_depletion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rell, John. "Ozone Layer Maybe on the Mend, New Data Suggest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5 Aug. 2003. National Geographic Society. 10 May 2008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news.nationalgeographic.com/news/2003/08/0805_030805_ozone.html&gt;.&lt;/span&gt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rling, Brien. "The Ozone Lay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30 May 2001. Nasa Official: Walts Brooks. 10 May 2008 &lt;http://www.nas.nasa.gov/About/Education/Ozone/ozonelayer.html&gt;.&lt;/span&gt;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.john, Stephen G. 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ational Geographic Society. 10 May 2008 &lt;http://science.nationalgeographic.com/science/environment/environmental-&lt;span style="mso-tab-count: 1"&gt; threats/ozone-depletion-overview.html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The Ozone Layer: Past, Present. Future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cleclic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08. 2008 Articleclick.Com Free Articles. 10 May 2008 &lt;http://www.articleclick.com/the-ozone-layer-&lt;span style="mso-tab-count: 1"&gt; past,-present,-and-future.html&gt;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7:47Z</dcterms:created>
  <dc:creator>User</dc:creator>
  <dc:description/>
  <dc:language>en-US</dc:language>
  <cp:lastModifiedBy>User</cp:lastModifiedBy>
  <dcterms:modified xsi:type="dcterms:W3CDTF">2008-05-30T03:18:09Z</dcterms:modified>
  <cp:revision>7</cp:revision>
  <dc:subject/>
  <dc:title>The Ozone Depletion</dc:title>
</cp:coreProperties>
</file>