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48C-0707-410B-A398-D686E958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514-1CAA-43C3-A019-BF96179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2EE-F21C-4DEA-BC67-EA37A7F9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A1D-17E5-4584-961C-EC7B613A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0D1-2E78-4934-9D8D-9C105313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DE0F-5A68-4859-A0BD-D889A03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6520-9C1A-47EE-A256-B8A8410D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EAEB-354B-4974-AFE4-A36CC27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C4A6-BEAD-4DA5-A45F-634DAD73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7378-7965-4F13-BDB3-842F4470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C10A-C92B-46DD-9BF5-3BF692FA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1E3-6227-452F-9BBB-A8C41E8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8431-45AE-439C-8746-0CA6D898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C577-18E5-4762-AA48-6CA362B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189D-9400-489C-8272-FAD32744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EFF-08B3-4AB3-AAD0-A9BFFC97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3E13-AE20-469C-A599-5D3C1C1C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A0F-FE2F-479C-AA54-41A5E655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766-2812-4339-AB72-909F9EA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E33-2136-44A9-8D6A-1495AC2D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C1C-492E-470B-BEC2-00B3BA3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853-0034-4F24-90A4-6C02F1D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2B3-A4C6-469B-B459-59463F6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19A-F921-4595-B0D4-EEA28CB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96F-F5CD-4F06-A98D-F8EB2E70F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188F-8CE5-4025-BA99-DFD62D468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zonelayer.noaa.gov/science/basics.htm%3E.%3Cspan" TargetMode="External"/><Relationship Id="rId2" Type="http://schemas.openxmlformats.org/officeDocument/2006/relationships/hyperlink" Target="http://www.ozonelayer.noaa.gov/science/basics.htm%3E.%3Cspan" TargetMode="External"/><Relationship Id="rId3" Type="http://schemas.openxmlformats.org/officeDocument/2006/relationships/hyperlink" Target="http://www.ozonelayer.noaa.gov/science/basics.htm%3E.%3Cspan" TargetMode="External"/><Relationship Id="rId4" Type="http://schemas.openxmlformats.org/officeDocument/2006/relationships/hyperlink" Target="http://www.ciese.org/curriculum/airproj/ozoneprimer.html%3E.%3C/span" TargetMode="External"/><Relationship Id="rId5" Type="http://schemas.openxmlformats.org/officeDocument/2006/relationships/hyperlink" Target="http://www.ciese.org/curriculum/airproj/ozoneprimer.html%3E.%3C/span" TargetMode="External"/><Relationship Id="rId6" Type="http://schemas.openxmlformats.org/officeDocument/2006/relationships/hyperlink" Target="http://www.ciese.org/curriculum/airproj/ozoneprimer.html%3E.%3C/span" TargetMode="External"/><Relationship Id="rId7" Type="http://schemas.openxmlformats.org/officeDocument/2006/relationships/hyperlink" Target="http://en.wikipedia.org/wiki/Ozone_depletion%3E.%3C/span" TargetMode="External"/><Relationship Id="rId8" Type="http://schemas.openxmlformats.org/officeDocument/2006/relationships/hyperlink" Target="http://en.wikipedia.org/wiki/Ozone_depletion%3E.%3C/span" TargetMode="External"/><Relationship Id="rId9" Type="http://schemas.openxmlformats.org/officeDocument/2006/relationships/hyperlink" Target="http://en.wikipedia.org/wiki/Ozone_depletion%3E.%3C/span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Ozone Deple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usan Je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pcoming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6640"/>
            <a:ext cx="3027240" cy="324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2276640"/>
            <a:ext cx="3022560" cy="32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ozone deple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ozone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tection from ultra violet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sphere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284640"/>
            <a:ext cx="3959280" cy="309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uses i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(Chlorofluorocarb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nt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2852640"/>
            <a:ext cx="403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852640"/>
            <a:ext cx="223200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it such a big de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the health of inhab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 the cr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 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51280" y="328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11600" y="3227400"/>
            <a:ext cx="17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n we do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uy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non-halon containing fire extinguis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using polystyrene foam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to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car air conditi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n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n computer off before you go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we need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halon containing fire extingui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CFCs containing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container so that it cannot be evaporat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alternative in fast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 worked !!! OH YE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te of ozone depletion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ulation of skin cancer de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sher, Marshall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Ozone Lay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ew York: Chelsea House, 1992. 75-8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eason, Karlean L. "Science: the Ozone Basics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DA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 Mar. 2008. 12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ozonelayer.noaa.gov/science/basics.htm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&gt;.&lt;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yle="mso-tab-count: 1"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Ground Level Ozone Prim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ir Polltion:What's the Solution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evens Institution of Technology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ciese.org/curriculum/airproj/ozoneprimer.html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9 May 2008. Wikimedia,Foundation, Inc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en.wikipedia.org/wiki/Ozone_depletion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rell, John. "Ozone Layer Maybe on the Mend, New Data Suggest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5 Aug. 2003. National Geographic Society. 10 May 2008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news.nationalgeographic.com/news/2003/08/0805_030805_ozone.html&gt;.&lt;/span&gt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rling, Brien. "The Ozone Lay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30 May 2001. Nasa Official: Walts Brooks. 10 May 2008 &lt;http://www.nas.nasa.gov/About/Education/Ozone/ozonelayer.html&gt;.&lt;/span&gt;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.john, Stephen G. 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ational Geographic Society. 10 May 2008 &lt;http://science.nationalgeographic.com/science/environment/environmental-&lt;span style="mso-tab-count: 1"&gt; threats/ozone-depletion-overview.html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The Ozone Layer: Past, Present. Future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cleclic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08. 2008 Articleclick.Com Free Articles. 10 May 2008 &lt;http://www.articleclick.com/the-ozone-layer-&lt;span style="mso-tab-count: 1"&gt; past,-present,-and-future.html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7:47Z</dcterms:created>
  <dc:creator>User</dc:creator>
  <dc:description/>
  <dc:language>en-US</dc:language>
  <cp:lastModifiedBy>User</cp:lastModifiedBy>
  <dcterms:modified xsi:type="dcterms:W3CDTF">2008-05-30T03:18:09Z</dcterms:modified>
  <cp:revision>7</cp:revision>
  <dc:subject/>
  <dc:title>The Ozone Depletion</dc:title>
</cp:coreProperties>
</file>