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EFA-59E9-4B11-B279-C3851D5B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A80-0C94-4AAC-8F47-3594A706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AA9-9A2A-4E45-8182-16FDB25D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9FB-9BBA-46F8-8B3A-47A76CDB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156-EE4B-4469-BE97-E72AB110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4089-0AC2-47E0-83C7-3F274076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10FD-8B9A-43FA-9936-675F0287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1EA3-CE9D-45F4-BCC7-81A8822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F1DE-313B-4ECA-AFC6-560029F3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BC5F-32D3-4E17-9D3D-8C06BF7F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0619-6D15-4EC7-B752-8E801B2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854-203B-443D-AD6D-4B154305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9DFD-2540-43EC-83DC-5DD67F54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9B0D-0894-4BFC-A590-E90B2E43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B668-AE2A-4AD6-BF83-4D17E3FF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C0E9-D756-4565-B66C-D63F1F2D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70FE-1CB6-4C83-9E72-895DF536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EDF-2416-478F-8377-9F69AB85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24E-CA42-4437-A7FD-A007864C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A51-78EB-43BD-A555-E7C4B90A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066-9EB2-4953-A7AD-BC958D0D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B35-5D5E-453C-9A57-7C874FB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3A6-590A-4EC0-8D31-8D51E0B0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667-4CF1-40AB-8E2F-0AB22B3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1A70-B427-4027-9EC4-8EC4ACC4B3D0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1635-6DC1-4CEA-9128-E36F133618DA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red.com/medtech/health/news/2003/09/60640%3E." TargetMode="External"/><Relationship Id="rId2" Type="http://schemas.openxmlformats.org/officeDocument/2006/relationships/hyperlink" Target="http://search.ebscohost.com/login.aspx?direct=true&amp;db=nfh&amp;AN=567831%3Cspan" TargetMode="External"/><Relationship Id="rId3" Type="http://schemas.openxmlformats.org/officeDocument/2006/relationships/hyperlink" Target="http://search.ebscohost.com/login.aspx?direct=true&amp;db=nfh&amp;AN=567831%3Cspan" TargetMode="External"/><Relationship Id="rId4" Type="http://schemas.openxmlformats.org/officeDocument/2006/relationships/hyperlink" Target="http://search.ebscohost.com/login.aspx?direct=true&amp;db=nfh&amp;AN=567831%3Cspan" TargetMode="External"/><Relationship Id="rId5" Type="http://schemas.openxmlformats.org/officeDocument/2006/relationships/hyperlink" Target="http://search.ebscohost.com/login.aspx?direct=true&amp;db=nfh&amp;AN=567831%3Cspan" TargetMode="External"/><Relationship Id="rId6" Type="http://schemas.openxmlformats.org/officeDocument/2006/relationships/hyperlink" Target="http://search.ebscohost.com/login.aspx?direct=true&amp;db=nfh&amp;AN=567831%3Cspan" TargetMode="External"/><Relationship Id="rId7" Type="http://schemas.openxmlformats.org/officeDocument/2006/relationships/hyperlink" Target="http://search.ebscohost.com/login.aspx?direct=true&amp;db=nfh&amp;AN=567831%3Cspan" TargetMode="External"/><Relationship Id="rId8" Type="http://schemas.openxmlformats.org/officeDocument/2006/relationships/hyperlink" Target="http://search.ebscohost.com/login.aspx?direct=true&amp;db=nfh&amp;AN=567831%3Cspan" TargetMode="External"/><Relationship Id="rId9" Type="http://schemas.openxmlformats.org/officeDocument/2006/relationships/hyperlink" Target="http://search.ebscohost.com/login.aspx?direct=true&amp;db=nfh&amp;AN=2W62W%3Cspan" TargetMode="External"/><Relationship Id="rId10" Type="http://schemas.openxmlformats.org/officeDocument/2006/relationships/hyperlink" Target="http://search.ebscohost.com/login.aspx?direct=true&amp;db=nfh&amp;AN=2W62W%3Cspan" TargetMode="External"/><Relationship Id="rId11" Type="http://schemas.openxmlformats.org/officeDocument/2006/relationships/hyperlink" Target="http://search.ebscohost.com/login.aspx?direct=true&amp;db=nfh&amp;AN=2W62W%3Cspan" TargetMode="External"/><Relationship Id="rId12" Type="http://schemas.openxmlformats.org/officeDocument/2006/relationships/hyperlink" Target="http://search.ebscohost.com/login.aspx?direct=true&amp;db=nfh&amp;AN=2W62W%3Cspan" TargetMode="External"/><Relationship Id="rId13" Type="http://schemas.openxmlformats.org/officeDocument/2006/relationships/hyperlink" Target="http://search.ebscohost.com/login.aspx?direct=true&amp;db=nfh&amp;AN=2W62W%3Cspan" TargetMode="External"/><Relationship Id="rId14" Type="http://schemas.openxmlformats.org/officeDocument/2006/relationships/hyperlink" Target="http://search.ebscohost.com/login.aspx?direct=true&amp;db=nfh&amp;AN=2W62W%3Cspan" TargetMode="External"/><Relationship Id="rId15" Type="http://schemas.openxmlformats.org/officeDocument/2006/relationships/hyperlink" Target="http://search.ebscohost.com/login.aspx?direct=true&amp;db=nfh&amp;AN=2W62W%3Cspan" TargetMode="External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24000" y="112500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Mother Earth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80000" y="400500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y Min Jee Kim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ings everybody can do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844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aving electricity is one way to decrease amount of greenhouse gase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can save energy by taking the bus, riding a bike or walking instead of driving car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haring information (Power of advertisement!)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 products that don't use as much energy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ing products with ENERGY STAR® labels will help protect the environment.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…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we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lovers and families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children will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Let’s make changes for those who we love and care!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Human Causes of Greenhouse gase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A journey of a thousand miles begins with a single step.”</a:t>
            </a:r>
            <a:endParaRPr b="0" lang="en-US" sz="32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ibliography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(새)숲을지나서"/>
                <a:ea typeface="(새)숲을지나서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82560" y="765000"/>
            <a:ext cx="7561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Internet Sources]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Reuter, Reuters. "Global Warming Deaths on Rise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WIRED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30 September 2003. 10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"/>
              </a:rPr>
              <a:t>http://www.wired.com/medtech/health/news/2003/09/60640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So what's the big deal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limate Changes Kids sit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24 October 2006. EP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at cause Global Warming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ovember 2002. Meadows Elementary. 11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ay 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library.thinkquest.org/CRO215471/global_warming.htm&gt;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y is it so important for me to help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I Can STOP 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10 May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Non-Internet Sources including Database]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Knickerbocker, Brad. "The global warming debate cuts two ways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hristian Scien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onitor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90.115 (11 May 1998): 3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2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3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4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5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6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7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8"/>
              </a:rPr>
              <a:t>=567831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erzer, Martin. "Global warming may tame hurricanes: A new study concluded that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global warming may produce conditions that discourage strong hurricanes,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but effects would be years away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iami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Herald, The (FL)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(18 Apr. 2007).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9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0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1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2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3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4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5"/>
              </a:rPr>
              <a:t>=2W62W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63456229333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m, Cheng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Our warming planet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Chicago:Raintree, 2004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ong, Douglas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ew York: Facts On File, 2004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7280" y="2349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 END</a:t>
            </a:r>
            <a:endParaRPr b="0" lang="en-US" sz="1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3635280" cy="263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Values of the Earth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refers as a m</a:t>
            </a:r>
            <a:r>
              <a:rPr b="1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are born from the Earth. we would not be able to born if the Earth wasn’t exist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called as Beginning and the End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born on the earth and returns to the Earth after they di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also a house for everyon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live, eat, play, sleep and talk on earth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-2629080" y="981000"/>
            <a:ext cx="822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metimes…</a:t>
            </a:r>
            <a:endParaRPr b="0" lang="en-US" sz="21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 what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, human are hurting our mother and ruining our house by ourselves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f the earth is destroyed, our generations would not be able to born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will be no place for us to liv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WILL BE THE </a:t>
            </a: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PLANET OF DEAT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n what’s destroying mother earth?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factors that destroys our planet earth. Ex) Water pollution, Air pollution and deforest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se environmental problems takes big role in destroying the earth. However, there is an environmental issue that many of the scientists are focusing on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”</a:t>
            </a:r>
            <a:r>
              <a:rPr b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s the most brutal criminal that grows rapidly and threats our lives on earth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2654280" cy="2808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7280" y="1700280"/>
            <a:ext cx="35686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means increase of average temperature of the earth and oceans since the 20th century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grows rapidly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eventually kill u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causes but greenhouse gases are the main caus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762360"/>
            <a:ext cx="273672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8728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es absorb heats in the atmospher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s gases keeps the temperature of the earth warm so the creatures can live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880000" cy="4321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1200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Carbon dioxide, methane, nitrous oxide and ozone are the main greenhouse gases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Human Causes of Greenhouse gases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over 6 billion people living on Earth now. More people means more pollution. 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Deforest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griculture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rning fossil fuels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ndustrializ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ffects on people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could bring more violent storms.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spreads tropical diseases, ex) malaria. In 2001, more than 250 cases of Malaria are reported only in New York.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owing food. Hot weather means drier soil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05264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estimate that climate change may already be causing in the region of 160,000 deaths in a year”. (Andrew Haines)</a:t>
            </a:r>
            <a:endParaRPr b="0" lang="en-US" sz="2000" spc="-1" strike="noStrike">
              <a:solidFill>
                <a:srgbClr val="9999ff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248000" cy="330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2276640"/>
            <a:ext cx="367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113440" cy="33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75240"/>
            <a:ext cx="5472000" cy="3182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92720" y="333360"/>
            <a:ext cx="3166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9:23:29Z</dcterms:created>
  <dc:creator>Name</dc:creator>
  <dc:description/>
  <dc:language>en-US</dc:language>
  <cp:lastModifiedBy>Name</cp:lastModifiedBy>
  <dcterms:modified xsi:type="dcterms:W3CDTF">2008-06-02T11:50:39Z</dcterms:modified>
  <cp:revision>4</cp:revision>
  <dc:subject/>
  <dc:title>Mother Earth</dc:title>
</cp:coreProperties>
</file>