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DCB-7F8E-42C8-B1D3-DE169ED9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888-3A6D-4C18-B39E-377D78DE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4A7-B51E-4371-97D9-6DAEEB04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8C7-22B6-43D9-A476-B082EAA4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84E4-0BFE-46CC-BAAC-D9141C8E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9511-3475-4E10-A072-7867BCCC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2D08-F7B9-4D3E-99DE-81F8A26C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3C06-3064-430C-AF9B-CD3DF692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47E9-41E5-4417-BF3E-B548BB40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86AF-CD79-4B18-9745-3F9FF55C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E6E6-DADB-400D-AA0D-D5ABFCA5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54E-1FA4-41A1-8F36-9BAF0C76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937B-A1C5-4A8E-8FA6-3686F06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5DE0-385F-42F6-93AB-41A1CF89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013B-B76B-4AA6-AAC7-03CC7D3A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A851-87A1-4C9F-BFAD-312736D6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D621-DCE1-4C70-B57E-A346545A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BC4-AC53-43D1-B984-7B419857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C4C-DE9C-4EA1-AB20-53CEC2FC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7C9-80DC-47F2-BDDC-2073DF92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97E-00A7-42EE-85B0-E8772B66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EC7-355C-4DBC-8D3E-AF6F6851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C1E-8D49-4CC6-BE2B-FD21FF26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13C-5C86-4D18-A3C0-989E1D2B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33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4B8B-361D-4AD1-A9A2-16126122F9C0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DF07-A85A-45DF-83E9-D0EB058202D3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red.com/medtech/health/news/2003/09/60640%3E." TargetMode="External"/><Relationship Id="rId2" Type="http://schemas.openxmlformats.org/officeDocument/2006/relationships/hyperlink" Target="http://search.ebscohost.com/login.aspx?direct=true&amp;db=nfh&amp;AN=567831%3Cspan" TargetMode="External"/><Relationship Id="rId3" Type="http://schemas.openxmlformats.org/officeDocument/2006/relationships/hyperlink" Target="http://search.ebscohost.com/login.aspx?direct=true&amp;db=nfh&amp;AN=567831%3Cspan" TargetMode="External"/><Relationship Id="rId4" Type="http://schemas.openxmlformats.org/officeDocument/2006/relationships/hyperlink" Target="http://search.ebscohost.com/login.aspx?direct=true&amp;db=nfh&amp;AN=567831%3Cspan" TargetMode="External"/><Relationship Id="rId5" Type="http://schemas.openxmlformats.org/officeDocument/2006/relationships/hyperlink" Target="http://search.ebscohost.com/login.aspx?direct=true&amp;db=nfh&amp;AN=567831%3Cspan" TargetMode="External"/><Relationship Id="rId6" Type="http://schemas.openxmlformats.org/officeDocument/2006/relationships/hyperlink" Target="http://search.ebscohost.com/login.aspx?direct=true&amp;db=nfh&amp;AN=567831%3Cspan" TargetMode="External"/><Relationship Id="rId7" Type="http://schemas.openxmlformats.org/officeDocument/2006/relationships/hyperlink" Target="http://search.ebscohost.com/login.aspx?direct=true&amp;db=nfh&amp;AN=567831%3Cspan" TargetMode="External"/><Relationship Id="rId8" Type="http://schemas.openxmlformats.org/officeDocument/2006/relationships/hyperlink" Target="http://search.ebscohost.com/login.aspx?direct=true&amp;db=nfh&amp;AN=567831%3Cspan" TargetMode="External"/><Relationship Id="rId9" Type="http://schemas.openxmlformats.org/officeDocument/2006/relationships/hyperlink" Target="http://search.ebscohost.com/login.aspx?direct=true&amp;db=nfh&amp;AN=2W62W%3Cspan" TargetMode="External"/><Relationship Id="rId10" Type="http://schemas.openxmlformats.org/officeDocument/2006/relationships/hyperlink" Target="http://search.ebscohost.com/login.aspx?direct=true&amp;db=nfh&amp;AN=2W62W%3Cspan" TargetMode="External"/><Relationship Id="rId11" Type="http://schemas.openxmlformats.org/officeDocument/2006/relationships/hyperlink" Target="http://search.ebscohost.com/login.aspx?direct=true&amp;db=nfh&amp;AN=2W62W%3Cspan" TargetMode="External"/><Relationship Id="rId12" Type="http://schemas.openxmlformats.org/officeDocument/2006/relationships/hyperlink" Target="http://search.ebscohost.com/login.aspx?direct=true&amp;db=nfh&amp;AN=2W62W%3Cspan" TargetMode="External"/><Relationship Id="rId13" Type="http://schemas.openxmlformats.org/officeDocument/2006/relationships/hyperlink" Target="http://search.ebscohost.com/login.aspx?direct=true&amp;db=nfh&amp;AN=2W62W%3Cspan" TargetMode="External"/><Relationship Id="rId14" Type="http://schemas.openxmlformats.org/officeDocument/2006/relationships/hyperlink" Target="http://search.ebscohost.com/login.aspx?direct=true&amp;db=nfh&amp;AN=2W62W%3Cspan" TargetMode="External"/><Relationship Id="rId15" Type="http://schemas.openxmlformats.org/officeDocument/2006/relationships/hyperlink" Target="http://search.ebscohost.com/login.aspx?direct=true&amp;db=nfh&amp;AN=2W62W%3Cspan" TargetMode="External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24000" y="112500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Mother Earth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80000" y="400500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y Min Jee Kim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ings everybody can do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84428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aving electricity is one way to decrease amount of greenhouse gase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can save energy by taking the bus, riding a bike or walking instead of driving car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haring information (Power of advertisement!)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 products that don't use as much energy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ing products with ENERGY STAR® labels will help protect the environment.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…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we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lovers and families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children will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Let’s make changes for those who we love and care!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Human Causes of Greenhouse gase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A journey of a thousand miles begins with a single step.”</a:t>
            </a:r>
            <a:endParaRPr b="0" lang="en-US" sz="32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ibliography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(새)숲을지나서"/>
                <a:ea typeface="(새)숲을지나서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82560" y="765000"/>
            <a:ext cx="7561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Internet Sources]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Reuter, Reuters. "Global Warming Deaths on Rise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WIRED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30 September 2003. 10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"/>
              </a:rPr>
              <a:t>http://www.wired.com/medtech/health/news/2003/09/60640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So what's the big deal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limate Changes Kids sit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24 October 2006. EP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at cause Global Warming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ovember 2002. Meadows Elementary. 11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ay 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library.thinkquest.org/CRO215471/global_warming.htm&gt;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y is it so important for me to help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I Can STOP 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10 May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Non-Internet Sources including Database]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Knickerbocker, Brad. "The global warming debate cuts two ways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hristian Scien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onitor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90.115 (11 May 1998): 3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2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3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4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5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6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7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8"/>
              </a:rPr>
              <a:t>=567831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erzer, Martin. "Global warming may tame hurricanes: A new study concluded that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global warming may produce conditions that discourage strong hurricanes,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but effects would be years away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iami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Herald, The (FL)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(18 Apr. 2007).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9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0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1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2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3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4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5"/>
              </a:rPr>
              <a:t>=2W62W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63456229333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m, Cheng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Our warming planet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Chicago:Raintree, 2004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ong, Douglas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ew York: Facts On File, 2004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7280" y="2349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 END</a:t>
            </a:r>
            <a:endParaRPr b="0" lang="en-US" sz="1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3635280" cy="263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Values of the Earth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refers as a m</a:t>
            </a:r>
            <a:r>
              <a:rPr b="1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are born from the Earth. we would not be able to born if the Earth wasn’t exist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called as Beginning and the End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born on the earth and returns to the Earth after they di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also a house for everyon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live, eat, play, sleep and talk on earth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-2629080" y="981000"/>
            <a:ext cx="822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metimes…</a:t>
            </a:r>
            <a:endParaRPr b="0" lang="en-US" sz="21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 what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, human are hurting our mother and ruining our house by ourselves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f the earth is destroyed, our generations would not be able to born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will be no place for us to liv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WILL BE THE </a:t>
            </a: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PLANET OF DEAT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n what’s destroying mother earth?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factors that destroys our planet earth. Ex) Water pollution, Air pollution and deforesta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se environmental problems takes big role in destroying the earth. However, there is an environmental issue that many of the scientists are focusing on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”</a:t>
            </a:r>
            <a:r>
              <a:rPr b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s the most brutal criminal that grows rapidly and threats our lives on earth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2654280" cy="2808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7280" y="1700280"/>
            <a:ext cx="35686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means increase of average temperature of the earth and oceans since the 20th century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grows rapidly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eventually kill u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causes but greenhouse gases are the main caus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762360"/>
            <a:ext cx="273672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8728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es absorb heats in the atmospher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s gases keeps the temperature of the earth warm so the creatures can live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880000" cy="4321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1200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Carbon dioxide, methane, nitrous oxide and ozone are the main greenhouse gases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Human Causes of Greenhouse gases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over 6 billion people living on Earth now. More people means more pollution. 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Deforest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griculture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rning fossil fuels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ndustrializ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38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ffects on people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could bring more violent storms.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spreads tropical diseases, ex) malaria. In 2001, more than 250 cases of Malaria are reported only in New York.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owing food. Hot weather means drier soil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105264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estimate that climate change may already be causing in the region of 160,000 deaths in a year”. (Andrew Haines)</a:t>
            </a:r>
            <a:endParaRPr b="0" lang="en-US" sz="2000" spc="-1" strike="noStrike">
              <a:solidFill>
                <a:srgbClr val="9999ff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248000" cy="330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2276640"/>
            <a:ext cx="367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5113440" cy="338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3675240"/>
            <a:ext cx="5472000" cy="3182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92720" y="333360"/>
            <a:ext cx="31669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9:23:29Z</dcterms:created>
  <dc:creator>Name</dc:creator>
  <dc:description/>
  <dc:language>en-US</dc:language>
  <cp:lastModifiedBy>Name</cp:lastModifiedBy>
  <dcterms:modified xsi:type="dcterms:W3CDTF">2008-06-02T11:50:39Z</dcterms:modified>
  <cp:revision>4</cp:revision>
  <dc:subject/>
  <dc:title>Mother Earth</dc:title>
</cp:coreProperties>
</file>