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C514-AE2A-4364-97F6-AF18B6D30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9C45-C05C-473F-BBF3-76D08CEC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BB3A-1714-42A7-9A1C-5851B5559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941F-AE70-49C2-93C6-42676E1DE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E50E2-B900-4FF2-BB4E-C18459ABE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9EAA-F15C-4E6C-B96A-B6D56419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B3C60-79FA-4A1C-8E26-E6126F45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3B9F-E391-4A13-9B63-ADD78031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2C39-6D3E-4C20-A2F0-95181E0F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AA0C-AE59-40AB-AFE0-815716C2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305A-53D9-4E1E-95C0-E75EBF3B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972B-00AD-477B-9301-76ECDED6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EB3A-9626-49DF-8E6B-D79C22D4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2730-B700-4F37-B091-FE96AB2A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5CA26-B988-4CE8-BCE7-0947A905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FB76F-B73F-4D36-8618-7BA77C2E4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47AA-AFFC-455C-85DC-064B73A67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71E0-AC9D-41D3-A099-261F4C5C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DB23-5252-4104-9EDC-3C4B34E9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47CE-8218-408D-8E64-24D50619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7C45-91F0-4793-871B-67782978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66BF-CEF0-49B7-BE99-D161D137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176E-E139-4FAE-B157-CD2D53A0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E947-5392-4D64-A84E-296B1AEC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51"/>
              </a:spcBef>
              <a:buClr>
                <a:srgbClr val="336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51"/>
              </a:spcBef>
              <a:buClr>
                <a:srgbClr val="00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51"/>
              </a:spcBef>
              <a:buClr>
                <a:srgbClr val="9999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51"/>
              </a:spcBef>
              <a:buClr>
                <a:srgbClr val="9999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51"/>
              </a:spcBef>
              <a:buClr>
                <a:srgbClr val="9999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99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99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37C9-8DE3-477C-BBB2-E305BF00ADDB}" type="slidenum">
              <a:rPr b="0" lang="en-US" sz="1400" spc="-1" strike="noStrike">
                <a:solidFill>
                  <a:srgbClr val="9999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99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99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C901-8284-4218-B525-A8FF9084D09A}" type="slidenum">
              <a:rPr b="0" lang="en-US" sz="1400" spc="-1" strike="noStrike">
                <a:solidFill>
                  <a:srgbClr val="9999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ff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굴림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9999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9999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wired.com/medtech/health/news/2003/09/60640%3E." TargetMode="External"/><Relationship Id="rId2" Type="http://schemas.openxmlformats.org/officeDocument/2006/relationships/hyperlink" Target="http://search.ebscohost.com/login.aspx?direct=true&amp;db=nfh&amp;AN=567831%3Cspan" TargetMode="External"/><Relationship Id="rId3" Type="http://schemas.openxmlformats.org/officeDocument/2006/relationships/hyperlink" Target="http://search.ebscohost.com/login.aspx?direct=true&amp;db=nfh&amp;AN=567831%3Cspan" TargetMode="External"/><Relationship Id="rId4" Type="http://schemas.openxmlformats.org/officeDocument/2006/relationships/hyperlink" Target="http://search.ebscohost.com/login.aspx?direct=true&amp;db=nfh&amp;AN=567831%3Cspan" TargetMode="External"/><Relationship Id="rId5" Type="http://schemas.openxmlformats.org/officeDocument/2006/relationships/hyperlink" Target="http://search.ebscohost.com/login.aspx?direct=true&amp;db=nfh&amp;AN=567831%3Cspan" TargetMode="External"/><Relationship Id="rId6" Type="http://schemas.openxmlformats.org/officeDocument/2006/relationships/hyperlink" Target="http://search.ebscohost.com/login.aspx?direct=true&amp;db=nfh&amp;AN=567831%3Cspan" TargetMode="External"/><Relationship Id="rId7" Type="http://schemas.openxmlformats.org/officeDocument/2006/relationships/hyperlink" Target="http://search.ebscohost.com/login.aspx?direct=true&amp;db=nfh&amp;AN=567831%3Cspan" TargetMode="External"/><Relationship Id="rId8" Type="http://schemas.openxmlformats.org/officeDocument/2006/relationships/hyperlink" Target="http://search.ebscohost.com/login.aspx?direct=true&amp;db=nfh&amp;AN=567831%3Cspan" TargetMode="External"/><Relationship Id="rId9" Type="http://schemas.openxmlformats.org/officeDocument/2006/relationships/hyperlink" Target="http://search.ebscohost.com/login.aspx?direct=true&amp;db=nfh&amp;AN=2W62W%3Cspan" TargetMode="External"/><Relationship Id="rId10" Type="http://schemas.openxmlformats.org/officeDocument/2006/relationships/hyperlink" Target="http://search.ebscohost.com/login.aspx?direct=true&amp;db=nfh&amp;AN=2W62W%3Cspan" TargetMode="External"/><Relationship Id="rId11" Type="http://schemas.openxmlformats.org/officeDocument/2006/relationships/hyperlink" Target="http://search.ebscohost.com/login.aspx?direct=true&amp;db=nfh&amp;AN=2W62W%3Cspan" TargetMode="External"/><Relationship Id="rId12" Type="http://schemas.openxmlformats.org/officeDocument/2006/relationships/hyperlink" Target="http://search.ebscohost.com/login.aspx?direct=true&amp;db=nfh&amp;AN=2W62W%3Cspan" TargetMode="External"/><Relationship Id="rId13" Type="http://schemas.openxmlformats.org/officeDocument/2006/relationships/hyperlink" Target="http://search.ebscohost.com/login.aspx?direct=true&amp;db=nfh&amp;AN=2W62W%3Cspan" TargetMode="External"/><Relationship Id="rId14" Type="http://schemas.openxmlformats.org/officeDocument/2006/relationships/hyperlink" Target="http://search.ebscohost.com/login.aspx?direct=true&amp;db=nfh&amp;AN=2W62W%3Cspan" TargetMode="External"/><Relationship Id="rId15" Type="http://schemas.openxmlformats.org/officeDocument/2006/relationships/hyperlink" Target="http://search.ebscohost.com/login.aspx?direct=true&amp;db=nfh&amp;AN=2W62W%3Cspan" TargetMode="External"/><Relationship Id="rId1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24000" y="1125000"/>
            <a:ext cx="6477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Mother Earth</a:t>
            </a:r>
            <a:endParaRPr b="0" lang="en-US" sz="5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580000" y="4005000"/>
            <a:ext cx="64771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By Min Jee Kim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Things everybody can do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29840" y="184428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Saving electricity is one way to decrease amount of greenhouse gases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We can save energy by taking the bus, riding a bike or walking instead of driving cars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Sharing information (Power of advertisement!)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buy products that don't use as much energy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Buying products with ENERGY STAR® labels will help protect the environment.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000000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8360" y="1905120"/>
            <a:ext cx="80661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Earth is…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where we liv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Where our lovers and families liv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Where our children will liv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016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Let’s make changes for those who we love and care!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굴림"/>
              </a:rPr>
              <a:t>Human Causes of Greenhouse gases</a:t>
            </a: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0"/>
            <a:ext cx="701064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(새)숲을지나서"/>
                <a:ea typeface="(새)숲을지나서"/>
              </a:rPr>
              <a:t>“</a:t>
            </a:r>
            <a:r>
              <a:rPr b="1" i="1" lang="en-US" sz="3200" spc="-1" strike="noStrike">
                <a:solidFill>
                  <a:srgbClr val="000000"/>
                </a:solidFill>
                <a:latin typeface="(새)숲을지나서"/>
                <a:ea typeface="(새)숲을지나서"/>
              </a:rPr>
              <a:t>A journey of a thousand miles begins with a single step.”</a:t>
            </a:r>
            <a:endParaRPr b="0" lang="en-US" sz="3200" spc="-1" strike="noStrike">
              <a:solidFill>
                <a:srgbClr val="9999ff"/>
              </a:solidFill>
              <a:latin typeface="굴림"/>
            </a:endParaRPr>
          </a:p>
        </p:txBody>
      </p:sp>
    </p:spTree>
  </p:cSld>
  <p:transition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Bibliography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(새)숲을지나서"/>
                <a:ea typeface="(새)숲을지나서"/>
              </a:rPr>
              <a:t> </a:t>
            </a:r>
            <a:br>
              <a:rPr sz="4200"/>
            </a:b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82560" y="765000"/>
            <a:ext cx="75614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[Internet Sources]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Reuter, Reuters. "Global Warming Deaths on Rise." 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WIRED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. 30 September 2003. 10 May 2008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&lt;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1"/>
              </a:rPr>
              <a:t>http://www.wired.com/medtech/health/news/2003/09/60640&gt;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"So what's the big deal?." 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Climate Changes Kids site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. 24 October 2006. EPA. 11 May 2008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&lt;www.icanstopglobalwarming.com/default.aspx&gt;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"What cause Global Warming?." 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Global Warming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. November 2002. Meadows Elementary. 11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May 2008 </a:t>
            </a:r>
            <a:br>
              <a:rPr sz="1200"/>
            </a:b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&lt;library.thinkquest.org/CRO215471/global_warming.htm&gt;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"Why is it so important for me to help?." 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I Can STOP Global Warming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. 10 May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2008 </a:t>
            </a:r>
            <a:br>
              <a:rPr sz="1200"/>
            </a:b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&lt;www.icanstopglobalwarming.com/default.aspx&gt;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[Non-Internet Sources including Database]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Knickerbocker, Brad. "The global warming debate cuts two ways." 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Christian Science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Monitor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 90.115 (11 May 1998): 3. 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Newspaper Source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. EBSCO. SAS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library, Shanghai, China. 11 May 2008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&lt;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2"/>
              </a:rPr>
              <a:t>http://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3"/>
              </a:rPr>
              <a:t>search.ebscohost.com/login.aspx?direct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4"/>
              </a:rPr>
              <a:t>=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5"/>
              </a:rPr>
              <a:t>true&amp;db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6"/>
              </a:rPr>
              <a:t>=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7"/>
              </a:rPr>
              <a:t>nfh&amp;AN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8"/>
              </a:rPr>
              <a:t>=567831&lt;span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 style="mso-tab-count: 1"&gt; &amp;site=ehost-live&gt;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Merzer, Martin. "Global warming may tame hurricanes: A new study concluded that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global warming may produce conditions that discourage strong hurricanes,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but effects would be years away." 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Miami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 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Herald, The (FL)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 (18 Apr. 2007).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Newspaper Source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. EBSCO. SAS library, Shanghai, China. 11 May 2008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&lt;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9"/>
              </a:rPr>
              <a:t>http://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10"/>
              </a:rPr>
              <a:t>search.ebscohost.com/login.aspx?direct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11"/>
              </a:rPr>
              <a:t>=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12"/>
              </a:rPr>
              <a:t>true&amp;db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13"/>
              </a:rPr>
              <a:t>=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14"/>
              </a:rPr>
              <a:t>nfh&amp;AN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15"/>
              </a:rPr>
              <a:t>=2W62W&lt;span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 style="mso-tab-count: 1"&gt; 63456229333&amp;site=ehost-live&gt;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Lim, Cheng. 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Our warming planet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. Chicago:Raintree, 2004.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Long, Douglas. 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Global warming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. New York: Facts On File, 2004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187280" y="234936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The END</a:t>
            </a:r>
            <a:endParaRPr b="0" lang="en-US" sz="1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3635280" cy="2637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Values of the Earth</a:t>
            </a: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Earth refers as a m</a:t>
            </a:r>
            <a:r>
              <a:rPr b="1" i="1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other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All humans are born from the Earth. we would not be able to born if the Earth wasn’t exist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Earth is called as Beginning and the End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All humans born on the earth and returns to the Earth after they die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Earth is also a house for everyone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We live, eat, play, sleep and talk on earth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-2629080" y="981000"/>
            <a:ext cx="8229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Sometimes…</a:t>
            </a:r>
            <a:endParaRPr b="0" lang="en-US" sz="2100" spc="-1" strike="noStrike">
              <a:solidFill>
                <a:srgbClr val="9999ff"/>
              </a:solidFill>
              <a:latin typeface="굴림"/>
            </a:endParaRPr>
          </a:p>
        </p:txBody>
      </p:sp>
    </p:spTree>
  </p:cSld>
  <p:transition>
    <p:split dir="in" orient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So what?</a:t>
            </a: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We, human are hurting our mother and ruining our house by ourselves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If the earth is destroyed, our generations would not be able to born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There will be no place for us to live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EARTH WILL BE THE </a:t>
            </a:r>
            <a:r>
              <a:rPr b="0" i="1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PLANET OF DEATH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Then what’s destroying mother earth?</a:t>
            </a:r>
            <a:endParaRPr b="0" lang="en-US" sz="3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There are many factors that destroys our planet earth. Ex) Water pollution, Air pollution and deforestation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These environmental problems takes big role in destroying the earth. However, there is an environmental issue that many of the scientists are focusing on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15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“</a:t>
            </a:r>
            <a:r>
              <a:rPr b="1" i="1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GLOBAL WARMING”</a:t>
            </a:r>
            <a:r>
              <a:rPr b="1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Is the most brutal criminal that grows rapidly and threats our lives on earth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92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Global Warming?</a:t>
            </a: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2654280" cy="28083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27280" y="1700280"/>
            <a:ext cx="35686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Global Warming means increase of average temperature of the earth and oceans since the 20th century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It grows rapidly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It will eventually kill us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There are many causes but greenhouse gases are the main cause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3762360"/>
            <a:ext cx="2736720" cy="3095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9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98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98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98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98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Greenhouse gas</a:t>
            </a: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87280" y="155736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Greenhouse gases absorb heats in the atmosphere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Greenhouses gases keeps the temperature of the earth warm so the creatures can live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2880000" cy="4321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012000" y="1557360"/>
            <a:ext cx="3429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Carbon dioxide, methane, nitrous oxide and ozone are the main greenhouse gases</a:t>
            </a:r>
            <a:endParaRPr b="0" lang="en-US" sz="2400" spc="-1" strike="noStrike">
              <a:solidFill>
                <a:srgbClr val="9999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99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99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99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.</a:t>
            </a:r>
            <a:endParaRPr b="0" lang="en-US" sz="2400" spc="-1" strike="noStrike">
              <a:solidFill>
                <a:srgbClr val="9999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Human Causes of Greenhouse gases</a:t>
            </a:r>
            <a:endParaRPr b="0" lang="en-US" sz="3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There are over 6 billion people living on Earth now. More people means more pollution. 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Deforestation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Agriculture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Burning fossil fuels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Industrialization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148360" y="3141720"/>
            <a:ext cx="33843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Effects on people</a:t>
            </a: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3640" y="227664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Global Warming could bring more violent storms. </a:t>
            </a: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It will spreads tropical diseases, ex) malaria. In 2001, more than 250 cases of Malaria are reported only in New York.</a:t>
            </a: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Growing food. Hot weather means drier soil</a:t>
            </a: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133720" y="1052640"/>
            <a:ext cx="70102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“</a:t>
            </a:r>
            <a:r>
              <a:rPr b="0" i="1" lang="en-US" sz="20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We estimate that climate change may already be causing in the region of 160,000 deaths in a year”. (Andrew Haines)</a:t>
            </a:r>
            <a:endParaRPr b="0" lang="en-US" sz="2000" spc="-1" strike="noStrike">
              <a:solidFill>
                <a:srgbClr val="9999ff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140360" y="2276640"/>
            <a:ext cx="4248000" cy="3303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500720" y="2276640"/>
            <a:ext cx="367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5113440" cy="3384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19640" y="3675240"/>
            <a:ext cx="5472000" cy="3182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292720" y="333360"/>
            <a:ext cx="316692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09:23:29Z</dcterms:created>
  <dc:creator>Name</dc:creator>
  <dc:description/>
  <dc:language>en-US</dc:language>
  <cp:lastModifiedBy>Name</cp:lastModifiedBy>
  <dcterms:modified xsi:type="dcterms:W3CDTF">2008-06-02T11:50:39Z</dcterms:modified>
  <cp:revision>4</cp:revision>
  <dc:subject/>
  <dc:title>Mother Earth</dc:title>
</cp:coreProperties>
</file>