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009-2C22-4FF2-A607-147186E1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481-DBD0-41DB-9368-BAF2F5DF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8C7-DC2E-40DE-B59C-46F9F78B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C4E9-C115-4B64-AD73-0FCBD14B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5758-EB06-47AF-B266-45A475A2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9AA9-847E-496F-A98F-5E508719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F6D3-1647-4727-86FD-427DB7F2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193D-9F55-4408-B6FF-A14652E2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677C-EA3E-4D9A-8BC5-8375FED6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ADE6-C4C8-42F5-9162-ACC8D720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1D37-B90C-43C4-9610-3876AAF3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CD97-348D-40D1-B1E6-A1F7566B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39D9-771C-486A-BF59-B0CD8596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377F-78DC-4172-AEE8-10D19C6C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1050-7FE3-42B6-9CEA-F97C2197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EAB4-F1CF-4A56-9B5E-1C6AC714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E57C-22D4-4329-B422-A70C9332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0C8-3061-4480-B5C5-FD7BB731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5F9B-922A-4310-B877-2637E1D9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488C-61B5-4232-8615-0021D65B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00C8-6EBC-40C2-8C1A-C215AFB4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49F6-E25D-4EA9-8DBE-3BB77D0F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F4B-7DD4-4FE6-B713-11B06430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27D-26B7-4061-969D-A378CB14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33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00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5E61-11E9-4543-97ED-3BD329AFA969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30E5-CB61-4290-8495-E054149A2B76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ff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굴림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ired.com/medtech/health/news/2003/09/60640%3E." TargetMode="External"/><Relationship Id="rId2" Type="http://schemas.openxmlformats.org/officeDocument/2006/relationships/hyperlink" Target="http://search.ebscohost.com/login.aspx?direct=true&amp;db=nfh&amp;AN=567831%3Cspan" TargetMode="External"/><Relationship Id="rId3" Type="http://schemas.openxmlformats.org/officeDocument/2006/relationships/hyperlink" Target="http://search.ebscohost.com/login.aspx?direct=true&amp;db=nfh&amp;AN=567831%3Cspan" TargetMode="External"/><Relationship Id="rId4" Type="http://schemas.openxmlformats.org/officeDocument/2006/relationships/hyperlink" Target="http://search.ebscohost.com/login.aspx?direct=true&amp;db=nfh&amp;AN=567831%3Cspan" TargetMode="External"/><Relationship Id="rId5" Type="http://schemas.openxmlformats.org/officeDocument/2006/relationships/hyperlink" Target="http://search.ebscohost.com/login.aspx?direct=true&amp;db=nfh&amp;AN=567831%3Cspan" TargetMode="External"/><Relationship Id="rId6" Type="http://schemas.openxmlformats.org/officeDocument/2006/relationships/hyperlink" Target="http://search.ebscohost.com/login.aspx?direct=true&amp;db=nfh&amp;AN=567831%3Cspan" TargetMode="External"/><Relationship Id="rId7" Type="http://schemas.openxmlformats.org/officeDocument/2006/relationships/hyperlink" Target="http://search.ebscohost.com/login.aspx?direct=true&amp;db=nfh&amp;AN=567831%3Cspan" TargetMode="External"/><Relationship Id="rId8" Type="http://schemas.openxmlformats.org/officeDocument/2006/relationships/hyperlink" Target="http://search.ebscohost.com/login.aspx?direct=true&amp;db=nfh&amp;AN=567831%3Cspan" TargetMode="External"/><Relationship Id="rId9" Type="http://schemas.openxmlformats.org/officeDocument/2006/relationships/hyperlink" Target="http://search.ebscohost.com/login.aspx?direct=true&amp;db=nfh&amp;AN=2W62W%3Cspan" TargetMode="External"/><Relationship Id="rId10" Type="http://schemas.openxmlformats.org/officeDocument/2006/relationships/hyperlink" Target="http://search.ebscohost.com/login.aspx?direct=true&amp;db=nfh&amp;AN=2W62W%3Cspan" TargetMode="External"/><Relationship Id="rId11" Type="http://schemas.openxmlformats.org/officeDocument/2006/relationships/hyperlink" Target="http://search.ebscohost.com/login.aspx?direct=true&amp;db=nfh&amp;AN=2W62W%3Cspan" TargetMode="External"/><Relationship Id="rId12" Type="http://schemas.openxmlformats.org/officeDocument/2006/relationships/hyperlink" Target="http://search.ebscohost.com/login.aspx?direct=true&amp;db=nfh&amp;AN=2W62W%3Cspan" TargetMode="External"/><Relationship Id="rId13" Type="http://schemas.openxmlformats.org/officeDocument/2006/relationships/hyperlink" Target="http://search.ebscohost.com/login.aspx?direct=true&amp;db=nfh&amp;AN=2W62W%3Cspan" TargetMode="External"/><Relationship Id="rId14" Type="http://schemas.openxmlformats.org/officeDocument/2006/relationships/hyperlink" Target="http://search.ebscohost.com/login.aspx?direct=true&amp;db=nfh&amp;AN=2W62W%3Cspan" TargetMode="External"/><Relationship Id="rId15" Type="http://schemas.openxmlformats.org/officeDocument/2006/relationships/hyperlink" Target="http://search.ebscohost.com/login.aspx?direct=true&amp;db=nfh&amp;AN=2W62W%3Cspan" TargetMode="External"/><Relationship Id="rId1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24000" y="112500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Mother Earth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580000" y="400500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y Min Jee Kim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ings everybody can do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9840" y="184428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aving electricity is one way to decrease amount of greenhouse gases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 can save energy by taking the bus, riding a bike or walking instead of driving cars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haring information (Power of advertisement!)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uy products that don't use as much energy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uying products with ENERGY STAR® labels will help protect the environment.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00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905120"/>
            <a:ext cx="80661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is…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here we liv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here our lovers and families liv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here our children will liv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Let’s make changes for those who we love and care!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굴림"/>
              </a:rPr>
              <a:t>Human Causes of Greenhouse gases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(새)숲을지나서"/>
                <a:ea typeface="(새)숲을지나서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(새)숲을지나서"/>
                <a:ea typeface="(새)숲을지나서"/>
              </a:rPr>
              <a:t>A journey of a thousand miles begins with a single step.”</a:t>
            </a:r>
            <a:endParaRPr b="0" lang="en-US" sz="32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ibliography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(새)숲을지나서"/>
                <a:ea typeface="(새)숲을지나서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82560" y="765000"/>
            <a:ext cx="7561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[Internet Sources]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Reuter, Reuters. "Global Warming Deaths on Rise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WIRED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30 September 2003. 10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"/>
              </a:rPr>
              <a:t>http://www.wired.com/medtech/health/news/2003/09/60640&gt;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"So what's the big deal?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Climate Changes Kids sit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24 October 2006. EPA. 11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www.icanstopglobalwarming.com/default.aspx&gt;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"What cause Global Warming?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Global Warming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November 2002. Meadows Elementary. 11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May 2008 </a:t>
            </a:r>
            <a:br>
              <a:rPr sz="1200"/>
            </a:b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library.thinkquest.org/CRO215471/global_warming.htm&gt;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"Why is it so important for me to help?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I Can STOP Global Warming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10 May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2008 </a:t>
            </a:r>
            <a:br>
              <a:rPr sz="1200"/>
            </a:b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www.icanstopglobalwarming.com/default.aspx&gt;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[Non-Internet Sources including Database]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Knickerbocker, Brad. "The global warming debate cuts two ways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Christian Scienc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Monitor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90.115 (11 May 1998): 3.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Newspaper Sourc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EBSCO. SAS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library, Shanghai, China. 11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2"/>
              </a:rPr>
              <a:t>http://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3"/>
              </a:rPr>
              <a:t>search.ebscohost.com/login.aspx?direct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4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5"/>
              </a:rPr>
              <a:t>true&amp;db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6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7"/>
              </a:rPr>
              <a:t>nfh&amp;AN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8"/>
              </a:rPr>
              <a:t>=567831&lt;span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style="mso-tab-count: 1"&gt; &amp;site=ehost-live&gt;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Merzer, Martin. "Global warming may tame hurricanes: A new study concluded that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global warming may produce conditions that discourage strong hurricanes,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but effects would be years away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Miami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Herald, The (FL)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(18 Apr. 2007).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Newspaper Sourc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EBSCO. SAS library, Shanghai, China. 11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9"/>
              </a:rPr>
              <a:t>http://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0"/>
              </a:rPr>
              <a:t>search.ebscohost.com/login.aspx?direct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1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2"/>
              </a:rPr>
              <a:t>true&amp;db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3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4"/>
              </a:rPr>
              <a:t>nfh&amp;AN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5"/>
              </a:rPr>
              <a:t>=2W62W&lt;span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style="mso-tab-count: 1"&gt; 63456229333&amp;site=ehost-live&gt;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Lim, Cheng.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Our warming planet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Chicago:Raintree, 2004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Long, Douglas.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Global warming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New York: Facts On File, 2004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87280" y="2349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 END</a:t>
            </a:r>
            <a:endParaRPr b="0" lang="en-US" sz="1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3635280" cy="263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Values of the Earth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refers as a m</a:t>
            </a:r>
            <a:r>
              <a:rPr b="1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All humans are born from the Earth. we would not be able to born if the Earth wasn’t exist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is called as Beginning and the End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All humans born on the earth and returns to the Earth after they die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is also a house for everyone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 live, eat, play, sleep and talk on earth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-2629080" y="981000"/>
            <a:ext cx="8229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ometimes…</a:t>
            </a:r>
            <a:endParaRPr b="0" lang="en-US" sz="21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o what?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, human are hurting our mother and ruining our house by ourselves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f the earth is destroyed, our generations would not be able to born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will be no place for us to live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WILL BE THE </a:t>
            </a:r>
            <a:r>
              <a:rPr b="0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PLANET OF DEATH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n what’s destroying mother earth?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are many factors that destroys our planet earth. Ex) Water pollution, Air pollution and deforestation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se environmental problems takes big role in destroying the earth. However, there is an environmental issue that many of the scientists are focusing on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”</a:t>
            </a:r>
            <a:r>
              <a:rPr b="1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s the most brutal criminal that grows rapidly and threats our lives on earth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?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2654280" cy="2808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7280" y="1700280"/>
            <a:ext cx="35686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 means increase of average temperature of the earth and oceans since the 20th century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t grows rapidly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t will eventually kill us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are many causes but greenhouse gases are the main caus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3762360"/>
            <a:ext cx="2736720" cy="309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eenhouse gas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87280" y="15573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eenhouse gases absorb heats in the atmospher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eenhouses gases keeps the temperature of the earth warm so the creatures can live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2880000" cy="4321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12000" y="155736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Carbon dioxide, methane, nitrous oxide and ozone are the main greenhouse gases</a:t>
            </a: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.</a:t>
            </a: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Human Causes of Greenhouse gases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are over 6 billion people living on Earth now. More people means more pollution. 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Deforestation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Agriculture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urning fossil fuels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ndustrialization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48360" y="3141720"/>
            <a:ext cx="3384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ffects on people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 could bring more violent storms. 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t will spreads tropical diseases, ex) malaria. In 2001, more than 250 cases of Malaria are reported only in New York.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owing food. Hot weather means drier soil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1052640"/>
            <a:ext cx="70102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 estimate that climate change may already be causing in the region of 160,000 deaths in a year”. (Andrew Haines)</a:t>
            </a:r>
            <a:endParaRPr b="0" lang="en-US" sz="2000" spc="-1" strike="noStrike">
              <a:solidFill>
                <a:srgbClr val="9999ff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40360" y="2276640"/>
            <a:ext cx="4248000" cy="3303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00720" y="2276640"/>
            <a:ext cx="367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5113440" cy="3384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19640" y="3675240"/>
            <a:ext cx="5472000" cy="3182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292720" y="333360"/>
            <a:ext cx="316692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9:23:29Z</dcterms:created>
  <dc:creator>Name</dc:creator>
  <dc:description/>
  <dc:language>en-US</dc:language>
  <cp:lastModifiedBy>Name</cp:lastModifiedBy>
  <dcterms:modified xsi:type="dcterms:W3CDTF">2008-06-02T11:50:39Z</dcterms:modified>
  <cp:revision>4</cp:revision>
  <dc:subject/>
  <dc:title>Mother Earth</dc:title>
</cp:coreProperties>
</file>