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00CA8-4052-447E-9466-B4C22D69C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466C4-F9E2-4252-840D-5CD3B81B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2E6F8-6FA7-4936-8B7C-A55E60859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983E1-A21D-4452-9880-7D4826B78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64DE8-0BCA-40DE-9D12-E4B9FEF9D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D90E5-1B20-42A4-BA07-76E57326A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D226B-0600-402C-9D29-7E37C97E1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58B95-BCB8-4B87-A8AE-6DA3991E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01653-C54E-4B81-92B2-38D472790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2A850-4138-4487-8029-29775339B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A479-1255-4F75-80BA-BBC943C2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04028-84AC-4872-AF21-23F52507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B4010-EBB8-4CD9-851C-AD661B99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C9471-87D1-4C56-A292-46170AB49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07FA3-9785-4484-A56F-30AA42575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AF91E-0747-44C3-809F-314268323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8296C-152C-4958-B09D-E6973F1BE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BE30-FCED-4A66-AF85-50DD18AA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18B01-834A-4F1B-A8E1-67986907C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8112-68F5-4B68-9768-C17AF0C5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99926-1958-4068-9111-C6600EE0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7F324-4DA2-43C5-8C7E-48F27467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6E1A-16BF-410B-B875-EE1BCCF5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796C-2CE2-43C4-95CC-A31FD8CC0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B148-1A0F-48B6-9704-7C3E19C6EA28}"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C2EB-96BE-4669-ACF0-FC0B49B15B03}"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2T09:02:01Z</dcterms:modified>
  <cp:revision>16</cp:revision>
  <dc:subject/>
  <dc:title>Climate Change</dc:title>
</cp:coreProperties>
</file>