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2A68A-0F78-42EF-A714-03396F329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67AB-B69B-439C-8C53-9C48257E9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2AD88-7B51-4544-9B71-443D9ABA0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7C886-5E08-4F4F-9275-AD821CA8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D4DDB-5272-4124-8E86-66DD1F9F0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D6783-9513-4D6E-9FC4-CC6961763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669C4-EA6D-4C95-B532-39E675E92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71036-E438-4280-AA7D-CC157DFFE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013E0-864D-44AD-85E6-7F9FC8024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71CB5-CC8B-44CB-967B-3EA0C103D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D8460-DCA8-48D7-A677-3EC955B9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5148C-FB94-4704-BA68-4B2ABC415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E172E-CA60-4F63-8205-4AC8E19D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E3BE0-1D5B-47BF-930A-FCD7A421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A498C-787C-4C61-BB32-A324839BA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0DF64-050D-41A8-B772-8AD55495E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485B7-44B5-4415-AAB9-E677C98E2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821EF-4338-46CF-9DBF-68EF8686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183D-E404-46C4-BBC7-2C76308DE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9E817-5FEC-4FAE-A38F-F3220AB2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E98DF-B827-4C16-AB47-7337A92F4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B6BC-213F-4521-8012-38AA8974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76B1-7A64-47CF-BD61-43EC112C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B686-372A-4D36-ABCA-78F7ECE82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4FB7-202D-4A64-B2FE-3862A9D49829}"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45B6-1639-46BC-B503-A59799688BCE}"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2T09:02:01Z</dcterms:modified>
  <cp:revision>16</cp:revision>
  <dc:subject/>
  <dc:title>Climate Change</dc:title>
</cp:coreProperties>
</file>