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82298-4102-466E-A054-AB958385D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A4AAC-541A-4DD1-86D8-2607484D1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06C4E-C57A-413E-B4BF-C8D5BD174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E11FB-2466-451A-A26C-FC1A977AC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15BA4-D84B-4520-837E-78D26E947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A1702-B46C-4D2F-9C59-3BF2886D7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6917C-9A0B-4B24-9853-A55292CE2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642B7-8C45-4B07-A62C-E62B7DA52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89EE7-7BA7-473A-959C-0A9D7839B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D6AF2-2909-49D7-B90B-0870587ED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0376F-DECC-4020-99B2-273544865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12DF4-C493-4725-9AEA-525AC42EE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414FA-33B7-4F23-9F8F-E134B422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E4D04-3DCE-4824-9649-6E111C4EA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B3D96-8D4A-4045-B672-4D92094A8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6DE59-2043-41BF-9AAF-83A18FADD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85E18-AE80-4C92-BDC7-8D87A2334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F943-7DB6-46E6-AE93-58E9359A7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27B33-DD75-446C-BFFF-3F01199BC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77278-1C62-4988-8A49-407B362F9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DB5E-C7D1-4D1C-8117-236235D17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4EB2C-0161-43CA-82D9-24EC0EC61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0F62-E9EA-4A39-8F5C-D50641B3F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22F0E-9836-42E6-BDE5-F74A32163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D6B0-D20E-4189-93CE-5DF4125CB43A}"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0C63-F788-40FD-9EEE-2D664897EC44}"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r>
              <a:rPr b="0" lang="ko-KR" sz="2800" spc="-1" strike="noStrike">
                <a:solidFill>
                  <a:srgbClr val="292929"/>
                </a:solidFill>
                <a:latin typeface="굴림"/>
              </a:rPr>
              <a:t>, avoid using hair spray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Bibliography</a:t>
            </a:r>
            <a:endParaRPr b="0" i="1" lang="en-US" sz="4000" spc="-1" strike="noStrike">
              <a:solidFill>
                <a:srgbClr val="000000"/>
              </a:solidFill>
              <a:latin typeface="굴림"/>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a:t>
            </a:r>
            <a:r>
              <a:rPr b="0" lang="ko-KR" sz="2000" spc="-1" strike="noStrike">
                <a:solidFill>
                  <a:srgbClr val="292929"/>
                </a:solidFill>
                <a:latin typeface="굴림"/>
              </a:rPr>
              <a:t>Climate change”, Yael Calhoun “Shanghai American School Library, Shanghai, China.”</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Global Warming." Dangerous Planet: The Science of Natural Disasters. Ed. Rob Nagel </a:t>
            </a:r>
            <a:r>
              <a:rPr b="0" lang="ko-KR" sz="2000" spc="-1" strike="noStrike">
                <a:solidFill>
                  <a:srgbClr val="292929"/>
                </a:solidFill>
                <a:latin typeface="굴림"/>
              </a:rPr>
              <a:t>	</a:t>
            </a:r>
            <a:r>
              <a:rPr b="0" lang="ko-KR" sz="2000" spc="-1" strike="noStrike">
                <a:solidFill>
                  <a:srgbClr val="292929"/>
                </a:solidFill>
                <a:latin typeface="굴림"/>
              </a:rPr>
              <a:t>and Betz Des Chenes. Online. Detroit: U*X*L, 2007. Science Resource Center. </a:t>
            </a:r>
            <a:r>
              <a:rPr b="0" lang="ko-KR" sz="2000" spc="-1" strike="noStrike">
                <a:solidFill>
                  <a:srgbClr val="292929"/>
                </a:solidFill>
                <a:latin typeface="굴림"/>
              </a:rPr>
              <a:t>	</a:t>
            </a:r>
            <a:r>
              <a:rPr b="0" lang="ko-KR" sz="2000" spc="-1" strike="noStrike">
                <a:solidFill>
                  <a:srgbClr val="292929"/>
                </a:solidFill>
                <a:latin typeface="굴림"/>
              </a:rPr>
              <a:t>Gale. “Shanghai American School Library, Shanghai, China.” 08 May 2008 </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 </a:t>
            </a:r>
            <a:r>
              <a:rPr b="0" lang="ko-KR" sz="2000" spc="-1" strike="noStrike">
                <a:solidFill>
                  <a:srgbClr val="292929"/>
                </a:solidFill>
                <a:latin typeface="굴림"/>
              </a:rPr>
              <a:t>The Ozone Layer: Past, Present Future.” Articleclick. 2008. 2008 Articleclick.Com </a:t>
            </a:r>
            <a:r>
              <a:rPr b="0" lang="ko-KR" sz="2000" spc="-1" strike="noStrike">
                <a:solidFill>
                  <a:srgbClr val="292929"/>
                </a:solidFill>
                <a:latin typeface="굴림"/>
              </a:rPr>
              <a:t>	</a:t>
            </a:r>
            <a:r>
              <a:rPr b="0" lang="ko-KR" sz="2000" spc="-1" strike="noStrike">
                <a:solidFill>
                  <a:srgbClr val="292929"/>
                </a:solidFill>
                <a:latin typeface="굴림"/>
              </a:rPr>
              <a:t>Free Articles. 10 may 2008 &lt;http://www.articleclick.com/the-ozone-layer-</a:t>
            </a:r>
            <a:r>
              <a:rPr b="0" lang="ko-KR" sz="2000" spc="-1" strike="noStrike">
                <a:solidFill>
                  <a:srgbClr val="292929"/>
                </a:solidFill>
                <a:latin typeface="굴림"/>
              </a:rPr>
              <a:t>	</a:t>
            </a:r>
            <a:r>
              <a:rPr b="0" lang="ko-KR" sz="2000" spc="-1" strike="noStrike">
                <a:solidFill>
                  <a:srgbClr val="292929"/>
                </a:solidFill>
                <a:latin typeface="굴림"/>
              </a:rPr>
              <a:t>past,-present,-and-future.html&gt;.</a:t>
            </a:r>
            <a:endParaRPr b="0" lang="en-US" sz="20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5T15:43:30Z</dcterms:modified>
  <cp:revision>19</cp:revision>
  <dc:subject/>
  <dc:title>Climate Change</dc:title>
</cp:coreProperties>
</file>