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3D122-B7F1-448B-B7FB-C587B4BA4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61C71-0771-4451-BB39-8E96809D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8AB50-006C-4AC6-852B-4FFB0B1D6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B794D-B60F-4219-8049-EF6E1479D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ED54B-4D51-45B4-9019-C1887A244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7101E-B549-482E-B4F6-83984018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D20EE-0062-49BB-A818-455D3A646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8EE46-F729-4C5D-B8FA-CDFB20E94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10852-88FA-40B8-B74A-81B86B9EB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5402D-E7C7-4D46-B02D-A9A538CB0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18F9A-3487-4863-8FAE-1A21FE243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BDBBD-367D-485F-9DCC-7B1B921E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97FBB-8B2E-4171-8B93-888F8E487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E830B-88CA-443A-9FF6-982F8E27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5E003-9B1B-4D15-A5E2-4B32AAD1D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7C9FE-FA59-4E91-BF1A-0C46EE278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CAE1C-4077-404A-9A1B-FD0174315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85CD7-C833-4C50-A603-64A78CAB5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5AB76-3CB5-444E-AA2C-E9EC2DCF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B6CFD-1A27-4B3E-A371-6DEC2F47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E519-766D-4396-A8B9-8093253E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21163-42F5-4501-8F42-3782C4814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19EA-6B49-4917-84A9-989783F0C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0808-77FB-4E85-95B9-E9942BB69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7CB0-AF7B-47CE-8774-05896F990D59}"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8D7C-A295-405F-B8D2-10C97216C640}"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r>
              <a:rPr b="0" lang="ko-KR" sz="2800" spc="-1" strike="noStrike">
                <a:solidFill>
                  <a:srgbClr val="292929"/>
                </a:solidFill>
                <a:latin typeface="굴림"/>
              </a:rPr>
              <a:t>, avoid using hair spray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a:t>
            </a:r>
            <a:r>
              <a:rPr b="0" lang="ko-KR" sz="2000" spc="-1" strike="noStrike">
                <a:solidFill>
                  <a:srgbClr val="292929"/>
                </a:solidFill>
                <a:latin typeface="굴림"/>
              </a:rPr>
              <a:t>Climate change”, Yael Calhoun “Shanghai American School Library, Shanghai, China.”</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Global Warming." Dangerous Planet: The Science of Natural Disasters. Ed. Rob Nagel </a:t>
            </a:r>
            <a:r>
              <a:rPr b="0" lang="ko-KR" sz="2000" spc="-1" strike="noStrike">
                <a:solidFill>
                  <a:srgbClr val="292929"/>
                </a:solidFill>
                <a:latin typeface="굴림"/>
              </a:rPr>
              <a:t>	</a:t>
            </a:r>
            <a:r>
              <a:rPr b="0" lang="ko-KR" sz="2000" spc="-1" strike="noStrike">
                <a:solidFill>
                  <a:srgbClr val="292929"/>
                </a:solidFill>
                <a:latin typeface="굴림"/>
              </a:rPr>
              <a:t>and Betz Des Chenes. Online. Detroit: U*X*L, 2007. Science Resource Center. </a:t>
            </a:r>
            <a:r>
              <a:rPr b="0" lang="ko-KR" sz="2000" spc="-1" strike="noStrike">
                <a:solidFill>
                  <a:srgbClr val="292929"/>
                </a:solidFill>
                <a:latin typeface="굴림"/>
              </a:rPr>
              <a:t>	</a:t>
            </a:r>
            <a:r>
              <a:rPr b="0" lang="ko-KR" sz="2000" spc="-1" strike="noStrike">
                <a:solidFill>
                  <a:srgbClr val="292929"/>
                </a:solidFill>
                <a:latin typeface="굴림"/>
              </a:rPr>
              <a:t>Gale. “Shanghai American School Library, Shanghai, China.” 08 May 2008 </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 </a:t>
            </a:r>
            <a:r>
              <a:rPr b="0" lang="ko-KR" sz="2000" spc="-1" strike="noStrike">
                <a:solidFill>
                  <a:srgbClr val="292929"/>
                </a:solidFill>
                <a:latin typeface="굴림"/>
              </a:rPr>
              <a:t>The Ozone Layer: Past, Present Future.” Articleclick. 2008. 2008 Articleclick.Com </a:t>
            </a:r>
            <a:r>
              <a:rPr b="0" lang="ko-KR" sz="2000" spc="-1" strike="noStrike">
                <a:solidFill>
                  <a:srgbClr val="292929"/>
                </a:solidFill>
                <a:latin typeface="굴림"/>
              </a:rPr>
              <a:t>	</a:t>
            </a:r>
            <a:r>
              <a:rPr b="0" lang="ko-KR" sz="2000" spc="-1" strike="noStrike">
                <a:solidFill>
                  <a:srgbClr val="292929"/>
                </a:solidFill>
                <a:latin typeface="굴림"/>
              </a:rPr>
              <a:t>Free Articles. 10 may 2008 &lt;http://www.articleclick.com/the-ozone-layer-</a:t>
            </a:r>
            <a:r>
              <a:rPr b="0" lang="ko-KR" sz="2000" spc="-1" strike="noStrike">
                <a:solidFill>
                  <a:srgbClr val="292929"/>
                </a:solidFill>
                <a:latin typeface="굴림"/>
              </a:rPr>
              <a:t>	</a:t>
            </a:r>
            <a:r>
              <a:rPr b="0" lang="ko-KR" sz="2000" spc="-1" strike="noStrike">
                <a:solidFill>
                  <a:srgbClr val="292929"/>
                </a:solidFill>
                <a:latin typeface="굴림"/>
              </a:rPr>
              <a:t>past,-present,-and-future.html&gt;.</a:t>
            </a:r>
            <a:endParaRPr b="0" lang="en-US" sz="20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5T15:43:30Z</dcterms:modified>
  <cp:revision>19</cp:revision>
  <dc:subject/>
  <dc:title>Climate Change</dc:title>
</cp:coreProperties>
</file>